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0.wmf" ContentType="image/x-wmf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  <p:sldId id="283" r:id="rId48"/>
    <p:sldId id="284" r:id="rId49"/>
    <p:sldId id="285" r:id="rId50"/>
    <p:sldId id="286" r:id="rId51"/>
    <p:sldId id="287" r:id="rId52"/>
    <p:sldId id="288" r:id="rId53"/>
    <p:sldId id="289" r:id="rId54"/>
    <p:sldId id="290" r:id="rId55"/>
    <p:sldId id="291" r:id="rId56"/>
    <p:sldId id="292" r:id="rId57"/>
    <p:sldId id="293" r:id="rId58"/>
    <p:sldId id="294" r:id="rId59"/>
    <p:sldId id="295" r:id="rId60"/>
    <p:sldId id="296" r:id="rId61"/>
    <p:sldId id="297" r:id="rId62"/>
    <p:sldId id="298" r:id="rId63"/>
    <p:sldId id="299" r:id="rId64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slide" Target="slides/slide28.xml"/><Relationship Id="rId49" Type="http://schemas.openxmlformats.org/officeDocument/2006/relationships/slide" Target="slides/slide29.xml"/><Relationship Id="rId50" Type="http://schemas.openxmlformats.org/officeDocument/2006/relationships/slide" Target="slides/slide30.xml"/><Relationship Id="rId51" Type="http://schemas.openxmlformats.org/officeDocument/2006/relationships/slide" Target="slides/slide31.xml"/><Relationship Id="rId52" Type="http://schemas.openxmlformats.org/officeDocument/2006/relationships/slide" Target="slides/slide32.xml"/><Relationship Id="rId53" Type="http://schemas.openxmlformats.org/officeDocument/2006/relationships/slide" Target="slides/slide33.xml"/><Relationship Id="rId54" Type="http://schemas.openxmlformats.org/officeDocument/2006/relationships/slide" Target="slides/slide34.xml"/><Relationship Id="rId55" Type="http://schemas.openxmlformats.org/officeDocument/2006/relationships/slide" Target="slides/slide35.xml"/><Relationship Id="rId56" Type="http://schemas.openxmlformats.org/officeDocument/2006/relationships/slide" Target="slides/slide36.xml"/><Relationship Id="rId57" Type="http://schemas.openxmlformats.org/officeDocument/2006/relationships/slide" Target="slides/slide37.xml"/><Relationship Id="rId58" Type="http://schemas.openxmlformats.org/officeDocument/2006/relationships/slide" Target="slides/slide38.xml"/><Relationship Id="rId59" Type="http://schemas.openxmlformats.org/officeDocument/2006/relationships/slide" Target="slides/slide39.xml"/><Relationship Id="rId60" Type="http://schemas.openxmlformats.org/officeDocument/2006/relationships/slide" Target="slides/slide40.xml"/><Relationship Id="rId61" Type="http://schemas.openxmlformats.org/officeDocument/2006/relationships/slide" Target="slides/slide41.xml"/><Relationship Id="rId62" Type="http://schemas.openxmlformats.org/officeDocument/2006/relationships/slide" Target="slides/slide42.xml"/><Relationship Id="rId63" Type="http://schemas.openxmlformats.org/officeDocument/2006/relationships/slide" Target="slides/slide43.xml"/><Relationship Id="rId64" Type="http://schemas.openxmlformats.org/officeDocument/2006/relationships/slide" Target="slides/slide44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 type="dt" idx="46"/>
          </p:nvPr>
        </p:nvSpPr>
        <p:spPr>
          <a:xfrm>
            <a:off x="385128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 type="ftr" idx="47"/>
          </p:nvPr>
        </p:nvSpPr>
        <p:spPr>
          <a:xfrm>
            <a:off x="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omponent Regional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 type="sldNum" idx="48"/>
          </p:nvPr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07AA758-12F7-45A2-AC37-5D460BC135F6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BF68565-18B9-4D05-88C0-6455821F8838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2B68F4BD-AEC8-4074-A487-23665725A578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960EC9A6-4383-4EAC-A843-2A1125EB2554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F0B4A5CC-61CF-45D7-B917-5259D7AE2532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7DFD61D9-0357-4A01-83C2-67926E43D718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C58DCC6E-E1D0-417B-BB04-7B39AFB3B4E7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7C8A6A44-F754-4B69-8A35-F6AE292C718D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7C6B1D12-437F-421B-8903-56FD7313F31A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05983170-0072-4521-B990-609674392C0F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B8DC2C7A-C28E-4CE0-B725-1D8B8F2D315C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F010D21F-EE4E-480C-BE08-96D603789961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23F8DA85-BEEE-4791-806F-CD037A8FBC90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36A2B2BC-41D1-441A-ACA3-D328753F05E1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B08ACC2B-B06D-42D6-822F-12F9D33A4691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3F8902C4-4041-4A2E-A882-1C36E6D2587E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9907D0E1-D05C-4299-8F9E-28ED3684BB58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9AFE0785-A0A6-49E5-879C-343DA17237D9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12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7CFE452E-A426-42BE-AF8D-0D225F18016B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73360" cy="372096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Symbol zastępczy numeru slajdu 3"/>
          <p:cNvSpPr/>
          <p:nvPr/>
        </p:nvSpPr>
        <p:spPr>
          <a:xfrm>
            <a:off x="3851280" y="9431280"/>
            <a:ext cx="2944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9B0FF8DC-8D3B-462B-BF5C-BCD16247330D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684EC-8589-4273-B014-ACCB28D09E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694BA-6AD2-495B-9F8E-75005120671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EADD83-F3D9-4A3A-8D62-0154427AE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A71C47-4F53-422D-B9C4-CEFAF0193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0657C0-F16A-4A3C-8503-632158D27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44B943-44B6-40CB-AF47-12555A90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6B4565-ABB8-4652-BF5B-609C7942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9F627A-9948-408E-9699-AB4F8ECD0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F2D68A-92B2-4389-ACC0-7FC9C8706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13618D-EE02-4536-B707-3715805C7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FB836A-B1F9-4E98-A219-5A99CDE44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E260E4-0FB4-4021-AE59-0F5DF5341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77308-BF65-4E11-A7F8-FA6D40E4F5F3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0B8B82-2323-423B-B677-C9F184753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1CFB7B-6AD1-406E-8707-6159AFEA0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0DCACC-2874-45FF-B8C2-2A1347C87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9F5256-1998-4D82-A097-BDAEBC9FD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E12239-6EFF-4294-A9AF-D20EF616E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D2FE2B-1CD5-47B0-B46F-430735243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DB8165-17A2-4A3E-976A-0A482DA43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765A19-EA50-4E10-B399-6FA6B8904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3D704E-024E-4AA9-B83B-DF1C221AE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254DD5-7C97-477F-8587-285AB9D58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77AB2-41B5-4882-B513-3EB535223EC7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C3ADBC-CB45-452E-AC14-033D57A67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1E6FF1-A891-4B5C-9124-B87B40342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BCEA22-0919-4D58-8152-A3250D856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E6B117-230D-40AC-8FEA-E6D63793B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9B60E8-5FF7-486C-B4B6-CB69B9B33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B97095-6959-4F04-994A-9534ED6C7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8B0C98-4563-427E-BEA5-4CCB68FC4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ED2172-36DA-41B8-B742-ED9B6881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8C2D9B-7583-4760-BE24-64ED0759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8CCAA0-C203-4E5D-B131-ACA8D139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DBE468-9096-46CF-9C67-1EB90C294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043400-4937-45F1-88D5-4F26C9EEC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214EE4-F248-4B6E-872A-351C7918D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8CC291-BFA1-4B93-97B0-440FA2582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AC4A82-F8EA-410F-986E-16553618D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50A1AC-5801-45CD-973A-6ED81ECDF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5D42FC-8494-429C-9FE1-A7FEDC388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FA23AD-811C-44A9-9B10-969D1869A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5C0F2A-FDBD-404F-9E3D-249D54C55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773780-477D-4BED-AB2F-5CC9B884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010E54-9DCD-408A-AADF-6A3CA713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CCFEBF-EA99-44FE-AE4B-051EB204E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3F5FD9-BD26-4C45-9786-E44932D10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A680D1-9E9E-4EEF-A039-6B892D639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F5F13E-F2FC-4B31-AB02-1F7AB6CC5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2EBA80-42CF-4981-9E12-80F44BECE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6ABD8E-C01B-49DD-B456-1F8AF4C50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94F621-DD49-4B4B-AE11-ED7774514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DDF039-B9B2-4ED3-B875-83EC29D39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AAB7E0-90A4-4881-AED3-09084DCF1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2110A4-CCFC-43FF-A90F-636E6BCC7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A51002-2662-4080-AD8B-BA5C85B1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F96E4F-7DA9-42EF-A0E7-A80BE100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3B38A3-D981-4EE4-BDBC-678F7FD8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DF5457-D65B-4B5D-959B-D3121BB29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572E8B-CFE6-41B0-B4A6-87B4C50F6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235084-11F3-4E8F-AC61-4B6A8FF04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C71A9A-BCBC-465B-B592-A5CF23785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DF012E-C332-43AE-9CE8-527763CB7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7166C0-CF16-4DE7-8F86-787EE7584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6827BF-2BDE-4540-A751-41DFB2552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BE4E11-EE8D-4C98-8B8C-2D04345AD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2D612E-AD4D-4B02-865E-7C8B0B8C8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271449-E25C-4FE1-88EF-A1A63F99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6E0BD9-9291-4A17-ABF4-F708C0669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09D955-5EB4-4FD6-962D-6AAF3F26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3C45CB-76D9-4FB2-8867-EB0A3FC75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186F2A-38F0-42AF-B3D7-7E2FA38AE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8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0CF2EE-57C0-4311-BE54-A532674A7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EC6950-ED68-4D9A-AC02-687E9568F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D9A1A8-DF00-4092-87EA-32E1E679B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24C278-592D-4A9A-A0F1-2FF8EF81E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57B325-748E-4022-B764-D96ADA42E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512F6C-4CA1-49FD-A34D-24FDBC544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72ED5C-2356-4D1C-995D-CB774AA93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12D016-F5A7-4EC6-B724-DD13C0E97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1DF302-7DB5-47BF-AA72-3A19A2995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6FF9C6-B5C6-4F5A-B726-C8083A227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70F8C0-6261-4E42-B41E-8CA704ABF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F218ED-7FE9-442B-821F-91DFEFBF5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D67CB7-B85B-43D4-AF39-515A9653E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A7FE99-303F-40A8-B4A9-F79F9034B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E90AF0-52B8-4443-8080-BD121909A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4BBC0F-5683-4ECB-A0A8-20540B0EE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553A2F-1FAE-46DC-B03E-2D962DC8E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AC5E49-7C0F-434C-8BA9-6A49A456F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34CA3C-0F7A-4208-B66B-094967F3A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DE52AA-3E7F-4929-9A16-4C5CC33E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053605-A39F-4E3E-8E80-CC12C93D4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070912-7822-4062-9F76-EF323288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AFD87D-F269-4B6A-AD60-0B81D4F16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8EF0BE-ABE4-438D-BEB9-471B07A55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3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4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F11E80-8F81-40F8-AA78-FBA6532DF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B10833-FDC5-44A0-92F4-9C1CFB92E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E5BBEC-1EF0-4411-A5DF-8129ED007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C0C512-7C58-408D-B617-D5A12F9C2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B86837-C0BD-46CE-AF5A-5E5DEFD7E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158030-E186-45A7-B2F6-BCCB9B908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B5477E-BB4B-4186-9D60-023CC33D7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E2D5D7-3F84-4E97-82C9-9E87785C9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7FE4A-5B6E-4AE7-B260-AA5C30142D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5FF1DA-1A68-4279-B07C-E6FA929BC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99B959-CDE7-4743-BB03-715C2CB00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780E68-70C7-49A3-8159-E808E9EFD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6FDE4C-A369-45B5-BFE7-A0B323E0C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1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2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B266C1-3A49-4C0C-8EDF-357AF4D06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92A204-9CC8-4007-B818-A4D156FC0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D2D2FF-5333-4B44-B43B-CD207C7B5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70B5D4-984A-4C93-9768-33D138281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F07E19-4103-44BE-8FB5-238A23B31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5E05F8-92C6-4C47-93D1-C91BBCBD9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850B1E-0A66-4DE5-910F-82CC904B4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F69F96-4647-4B99-91CF-913FEC60A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DD44CF-4516-45DB-9EEE-831C080BE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315A26-BE61-446C-940E-0AE7DA937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21D735-826F-4B66-8840-B1224982C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E2684D-7616-45E0-903A-8B5D35C5E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1B921D-8357-413B-B2CD-DCF0B5BFF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F958CB-B395-4F9A-9F5E-01A51C2A9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7A2EB9-1151-4DC1-84E3-551F93206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65A396-B677-4379-B4E9-BAAA413BE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69016A-D2C8-41A3-9AAB-A9837104B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1B5E58-6412-4A62-BFB2-8C69DEAAB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B2FDB-F4FC-47BA-B446-6BAE351713F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7D2EA0-30BA-47CA-8CBE-6307111C0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BFE25C-AB6B-4210-85B9-4F22F18C2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87901D-F3E7-415E-A000-E9C3913FB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CFE1CB-8E35-4F38-B3DB-3BBEB7456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C80994-C49B-4A90-A767-73C9AE33B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B14A9B-DB4C-481C-9381-C79CEC9C9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20D2EF-18AA-4896-819A-BB9EBB72E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77D2C-163F-43D5-BE19-16B6CE77B26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A9CE2B-7671-40FC-B120-DB62425AE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B99F6-B7CA-4AE4-9D51-24D16624162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9BD8DE-8908-49E8-A77F-10435071B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C1F439-C8AF-4214-BD60-60967ED46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2AE12F-7B50-4788-A81D-06C98836F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704C8B-3B1E-41F6-9AAB-22332D8C8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FD0972-E380-43F3-8A99-0CEF39C27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8E22E8-E01F-4BF1-AA16-3AB21153A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88355B-3076-4132-8504-397C2B040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AD3BFE-69B9-47C9-BED0-00C9BD7F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806CB3-0083-46C4-A004-58DA91AC0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8AEF0E-F09D-4417-B019-70752BF59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EBF79-AE0F-4DAE-8D03-EED1A23953A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4B22CC-EE50-4CA8-B6FC-3821AB28A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0C64F4-72AC-4A3F-BA13-D9B3A258EFD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73480F-CAB5-4010-A9FE-527A3B45D08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596090-428E-449D-9903-3A51AFE0D0E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062508-FCF9-4C52-9211-79FA2746515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3D86AA-B3A3-4B9E-97EB-59F58DCC486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DA3A9A-26F6-4E77-A40E-D37DFC468FC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B598D3-760B-4489-9853-3020F4EE070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6D698C-39EB-42E9-82E8-27A6FCDA1F4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4D5A7D-A8D8-40F6-AFFF-70DBB4ABFA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9C8F1-11C0-47D0-A4A4-007734BB20F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FFD1BF-BEC5-4DAA-9824-7E0E8403A26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6AAE1D-4FB0-4CA7-BCE7-95C79FAB644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AE5A38-8383-414F-A797-135AFFDA889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E1A5E-FCA9-4508-9785-46262C5EAD1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EE12E-5DCE-4E7D-AAE1-6EA4005B09C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A8DDC-CE83-42BE-9240-27E2339C370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EA8EC-781B-40A9-8F1E-2FCAEBA2D83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BE337-69E3-48EA-BF1D-3EB34FEF626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848BC-793D-401B-8951-1170D252AD2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0D064-892E-4626-B4C6-896F301399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E5E7A-2539-4F5B-BA48-79EABA6955A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9EE3C-76E3-4AEF-ADE6-D157E22439A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A04EC-490C-4B99-A4B8-6A456F982CF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80395-7BF6-4742-B841-44B23AE9606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CC5E0-C8EE-47F3-8878-670101A5F31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94B20-E60C-40C4-8EB0-0E51D950AB2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0292AD-FBBA-4B63-9AAF-945DD71F2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87D0DE-9183-433C-9E34-EDC386A56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4D3FEA-DCE3-418C-AAB5-217BDEBAA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C0F3F-DAC2-458A-9AAD-394E930FB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E9FA1-54A1-46ED-BA18-B2559B8E6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0BF24-247B-46FD-A48B-CCCAA5AFEF6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E8AE1F-D413-4173-9C04-56F7AFCCA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06DB7-71EC-4817-B6BF-FCA1B7CF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B62BF4-3227-4ECE-A439-373BF27A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808F39-1ABB-4F56-9980-1B13BA01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B19CD-F9B2-4268-BFFF-E11662DDB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31D795-89A7-4AEB-A2D0-74EE2958A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185D0-02F0-4EEE-8397-D58755745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779A77-66E1-453F-9BEE-3BFE55DA2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EE758A-809B-4E99-B981-67D55CEB8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A97454-F78E-4CDC-A78F-CF7AF7004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Komponent Central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5A27F-136F-435D-9142-EEE7EFDC1ED2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ounded Rectangle 13"/>
          <p:cNvSpPr/>
          <p:nvPr/>
        </p:nvSpPr>
        <p:spPr>
          <a:xfrm>
            <a:off x="247680" y="228600"/>
            <a:ext cx="942012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14"/>
          <p:cNvSpPr/>
          <p:nvPr/>
        </p:nvSpPr>
        <p:spPr>
          <a:xfrm>
            <a:off x="6551640" y="4203720"/>
            <a:ext cx="311616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18"/>
          <p:cNvSpPr/>
          <p:nvPr/>
        </p:nvSpPr>
        <p:spPr>
          <a:xfrm>
            <a:off x="2836800" y="4075200"/>
            <a:ext cx="600732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22"/>
          <p:cNvSpPr/>
          <p:nvPr/>
        </p:nvSpPr>
        <p:spPr>
          <a:xfrm>
            <a:off x="3063960" y="4087800"/>
            <a:ext cx="59245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eform 26"/>
          <p:cNvSpPr/>
          <p:nvPr/>
        </p:nvSpPr>
        <p:spPr>
          <a:xfrm>
            <a:off x="6076800" y="4073400"/>
            <a:ext cx="358308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eform 10"/>
          <p:cNvSpPr/>
          <p:nvPr/>
        </p:nvSpPr>
        <p:spPr>
          <a:xfrm>
            <a:off x="228600" y="4059360"/>
            <a:ext cx="945036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19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CF51D-4A0C-410B-9464-056483C8FBD4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20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21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65D3E-F46F-4DF1-9105-99E853C2518F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449" name="Freeform 14"/>
            <p:cNvSpPr/>
            <p:nvPr/>
          </p:nvSpPr>
          <p:spPr>
            <a:xfrm>
              <a:off x="6550920" y="1824480"/>
              <a:ext cx="311616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8"/>
            <p:cNvSpPr/>
            <p:nvPr/>
          </p:nvSpPr>
          <p:spPr>
            <a:xfrm>
              <a:off x="2836800" y="1695960"/>
              <a:ext cx="600660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22"/>
            <p:cNvSpPr/>
            <p:nvPr/>
          </p:nvSpPr>
          <p:spPr>
            <a:xfrm>
              <a:off x="3063600" y="1708200"/>
              <a:ext cx="592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26"/>
            <p:cNvSpPr/>
            <p:nvPr/>
          </p:nvSpPr>
          <p:spPr>
            <a:xfrm>
              <a:off x="6076440" y="1694880"/>
              <a:ext cx="358380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2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B3F2E-5DBF-441F-847D-36EEC03771C5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3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4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C1829-7F49-4C6E-9129-0E0EE8894056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497" name="Freeform 14"/>
            <p:cNvSpPr/>
            <p:nvPr/>
          </p:nvSpPr>
          <p:spPr>
            <a:xfrm>
              <a:off x="6550920" y="1824480"/>
              <a:ext cx="311616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18"/>
            <p:cNvSpPr/>
            <p:nvPr/>
          </p:nvSpPr>
          <p:spPr>
            <a:xfrm>
              <a:off x="2836800" y="1695960"/>
              <a:ext cx="600660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22"/>
            <p:cNvSpPr/>
            <p:nvPr/>
          </p:nvSpPr>
          <p:spPr>
            <a:xfrm>
              <a:off x="3063600" y="1708200"/>
              <a:ext cx="592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26"/>
            <p:cNvSpPr/>
            <p:nvPr/>
          </p:nvSpPr>
          <p:spPr>
            <a:xfrm>
              <a:off x="6076440" y="1694880"/>
              <a:ext cx="358380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25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3D831-E0C4-499D-8BD8-C3808520932C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ftr" idx="26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sldNum" idx="27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89113-5012-4F8D-832F-336F6BBC4509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545" name="Freeform 14"/>
            <p:cNvSpPr/>
            <p:nvPr/>
          </p:nvSpPr>
          <p:spPr>
            <a:xfrm>
              <a:off x="6550920" y="1824480"/>
              <a:ext cx="311616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18"/>
            <p:cNvSpPr/>
            <p:nvPr/>
          </p:nvSpPr>
          <p:spPr>
            <a:xfrm>
              <a:off x="2836800" y="1695960"/>
              <a:ext cx="600660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22"/>
            <p:cNvSpPr/>
            <p:nvPr/>
          </p:nvSpPr>
          <p:spPr>
            <a:xfrm>
              <a:off x="3063600" y="1708200"/>
              <a:ext cx="592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26"/>
            <p:cNvSpPr/>
            <p:nvPr/>
          </p:nvSpPr>
          <p:spPr>
            <a:xfrm>
              <a:off x="6076440" y="1694880"/>
              <a:ext cx="358380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28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4321F-2272-4BA1-A5FD-56E36EB1FAD8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29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30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7EFFD-4B1A-41FC-91FC-2ACCE7E47BB8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ounded Rectangle 11"/>
          <p:cNvSpPr/>
          <p:nvPr/>
        </p:nvSpPr>
        <p:spPr>
          <a:xfrm>
            <a:off x="247680" y="228600"/>
            <a:ext cx="942012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Group 5"/>
          <p:cNvGrpSpPr/>
          <p:nvPr/>
        </p:nvGrpSpPr>
        <p:grpSpPr>
          <a:xfrm>
            <a:off x="228600" y="714240"/>
            <a:ext cx="9450360" cy="1330560"/>
            <a:chOff x="228600" y="714240"/>
            <a:chExt cx="9450360" cy="1330560"/>
          </a:xfrm>
        </p:grpSpPr>
        <p:sp>
          <p:nvSpPr>
            <p:cNvPr id="593" name="Freeform 14"/>
            <p:cNvSpPr/>
            <p:nvPr/>
          </p:nvSpPr>
          <p:spPr>
            <a:xfrm>
              <a:off x="6550920" y="859320"/>
              <a:ext cx="311616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18"/>
            <p:cNvSpPr/>
            <p:nvPr/>
          </p:nvSpPr>
          <p:spPr>
            <a:xfrm>
              <a:off x="2836800" y="730800"/>
              <a:ext cx="600660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22"/>
            <p:cNvSpPr/>
            <p:nvPr/>
          </p:nvSpPr>
          <p:spPr>
            <a:xfrm>
              <a:off x="3063600" y="743040"/>
              <a:ext cx="592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26"/>
            <p:cNvSpPr/>
            <p:nvPr/>
          </p:nvSpPr>
          <p:spPr>
            <a:xfrm>
              <a:off x="6076440" y="729720"/>
              <a:ext cx="358380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10"/>
            <p:cNvSpPr/>
            <p:nvPr/>
          </p:nvSpPr>
          <p:spPr>
            <a:xfrm>
              <a:off x="228600" y="71424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 type="dt" idx="31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2FFED-AC87-4272-8FC2-D49CF733FA8F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 type="ftr" idx="32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 type="sldNum" idx="33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37DB6-BB9A-420E-8863-1A62C3910979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ounded Rectangle 14"/>
          <p:cNvSpPr/>
          <p:nvPr/>
        </p:nvSpPr>
        <p:spPr>
          <a:xfrm>
            <a:off x="247680" y="228600"/>
            <a:ext cx="942012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0" name="Group 23"/>
          <p:cNvGrpSpPr/>
          <p:nvPr/>
        </p:nvGrpSpPr>
        <p:grpSpPr>
          <a:xfrm>
            <a:off x="228600" y="714240"/>
            <a:ext cx="9450360" cy="1332000"/>
            <a:chOff x="228600" y="714240"/>
            <a:chExt cx="9450360" cy="1332000"/>
          </a:xfrm>
        </p:grpSpPr>
        <p:sp>
          <p:nvSpPr>
            <p:cNvPr id="641" name="Freeform 14"/>
            <p:cNvSpPr/>
            <p:nvPr/>
          </p:nvSpPr>
          <p:spPr>
            <a:xfrm>
              <a:off x="6558840" y="859320"/>
              <a:ext cx="312012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18"/>
            <p:cNvSpPr/>
            <p:nvPr/>
          </p:nvSpPr>
          <p:spPr>
            <a:xfrm>
              <a:off x="2840040" y="730800"/>
              <a:ext cx="601416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22"/>
            <p:cNvSpPr/>
            <p:nvPr/>
          </p:nvSpPr>
          <p:spPr>
            <a:xfrm>
              <a:off x="3067200" y="743040"/>
              <a:ext cx="593136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26"/>
            <p:cNvSpPr/>
            <p:nvPr/>
          </p:nvSpPr>
          <p:spPr>
            <a:xfrm>
              <a:off x="6083640" y="729720"/>
              <a:ext cx="358812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28"/>
            <p:cNvSpPr/>
            <p:nvPr/>
          </p:nvSpPr>
          <p:spPr>
            <a:xfrm>
              <a:off x="228600" y="714240"/>
              <a:ext cx="945036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dt" idx="34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F0261-53EB-456F-928A-961DF302BEAE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35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sldNum" idx="36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82AE7-7349-44E0-B300-C2DD80B6AA0A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ounded Rectangle 14"/>
          <p:cNvSpPr/>
          <p:nvPr/>
        </p:nvSpPr>
        <p:spPr>
          <a:xfrm>
            <a:off x="247680" y="228600"/>
            <a:ext cx="942012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Group 8"/>
          <p:cNvGrpSpPr/>
          <p:nvPr/>
        </p:nvGrpSpPr>
        <p:grpSpPr>
          <a:xfrm>
            <a:off x="228600" y="5354640"/>
            <a:ext cx="9450360" cy="1330200"/>
            <a:chOff x="228600" y="5354640"/>
            <a:chExt cx="9450360" cy="1330200"/>
          </a:xfrm>
        </p:grpSpPr>
        <p:sp>
          <p:nvSpPr>
            <p:cNvPr id="689" name="Freeform 14"/>
            <p:cNvSpPr/>
            <p:nvPr/>
          </p:nvSpPr>
          <p:spPr>
            <a:xfrm>
              <a:off x="6558840" y="5499720"/>
              <a:ext cx="312012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18"/>
            <p:cNvSpPr/>
            <p:nvPr/>
          </p:nvSpPr>
          <p:spPr>
            <a:xfrm>
              <a:off x="2840040" y="5371200"/>
              <a:ext cx="601416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22"/>
            <p:cNvSpPr/>
            <p:nvPr/>
          </p:nvSpPr>
          <p:spPr>
            <a:xfrm>
              <a:off x="3067200" y="5383440"/>
              <a:ext cx="593136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26"/>
            <p:cNvSpPr/>
            <p:nvPr/>
          </p:nvSpPr>
          <p:spPr>
            <a:xfrm>
              <a:off x="6083640" y="5370120"/>
              <a:ext cx="358812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0"/>
            <p:cNvSpPr/>
            <p:nvPr/>
          </p:nvSpPr>
          <p:spPr>
            <a:xfrm>
              <a:off x="228600" y="5354640"/>
              <a:ext cx="945036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 type="dt" idx="37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92C24-3FB1-41DB-AB52-5A5F8952E957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 type="ftr" idx="38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 type="sldNum" idx="39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E4010-C044-43B0-8A2F-71DC186E48D6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6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737" name="Freeform 14"/>
            <p:cNvSpPr/>
            <p:nvPr/>
          </p:nvSpPr>
          <p:spPr>
            <a:xfrm>
              <a:off x="6550920" y="1824480"/>
              <a:ext cx="311616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18"/>
            <p:cNvSpPr/>
            <p:nvPr/>
          </p:nvSpPr>
          <p:spPr>
            <a:xfrm>
              <a:off x="2836800" y="1695960"/>
              <a:ext cx="600660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22"/>
            <p:cNvSpPr/>
            <p:nvPr/>
          </p:nvSpPr>
          <p:spPr>
            <a:xfrm>
              <a:off x="3063600" y="1708200"/>
              <a:ext cx="592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26"/>
            <p:cNvSpPr/>
            <p:nvPr/>
          </p:nvSpPr>
          <p:spPr>
            <a:xfrm>
              <a:off x="6076440" y="1694880"/>
              <a:ext cx="358380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dt" idx="40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FEFC0-59C2-42E9-87B7-ABCA50004468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ftr" idx="41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sldNum" idx="42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3A749-0F41-4709-A6FA-92A3A532263B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ounded Rectangle 20"/>
          <p:cNvSpPr/>
          <p:nvPr/>
        </p:nvSpPr>
        <p:spPr>
          <a:xfrm>
            <a:off x="247680" y="228600"/>
            <a:ext cx="942012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Group 14"/>
          <p:cNvGrpSpPr/>
          <p:nvPr/>
        </p:nvGrpSpPr>
        <p:grpSpPr>
          <a:xfrm>
            <a:off x="228600" y="714240"/>
            <a:ext cx="9450360" cy="1332000"/>
            <a:chOff x="228600" y="714240"/>
            <a:chExt cx="9450360" cy="1332000"/>
          </a:xfrm>
        </p:grpSpPr>
        <p:sp>
          <p:nvSpPr>
            <p:cNvPr id="785" name="Freeform 14"/>
            <p:cNvSpPr/>
            <p:nvPr/>
          </p:nvSpPr>
          <p:spPr>
            <a:xfrm>
              <a:off x="6558840" y="859320"/>
              <a:ext cx="312012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18"/>
            <p:cNvSpPr/>
            <p:nvPr/>
          </p:nvSpPr>
          <p:spPr>
            <a:xfrm>
              <a:off x="2840040" y="730800"/>
              <a:ext cx="601416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22"/>
            <p:cNvSpPr/>
            <p:nvPr/>
          </p:nvSpPr>
          <p:spPr>
            <a:xfrm>
              <a:off x="3067200" y="743040"/>
              <a:ext cx="593136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26"/>
            <p:cNvSpPr/>
            <p:nvPr/>
          </p:nvSpPr>
          <p:spPr>
            <a:xfrm>
              <a:off x="6083640" y="729720"/>
              <a:ext cx="358812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19"/>
            <p:cNvSpPr/>
            <p:nvPr/>
          </p:nvSpPr>
          <p:spPr>
            <a:xfrm>
              <a:off x="228600" y="714240"/>
              <a:ext cx="945036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43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C3606-2906-4889-86AB-BF200BF70E0C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44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45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19161-8B26-4414-A5CA-E67A01DFFE4F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prezentacja_podtytul"/>
          <p:cNvPicPr/>
          <p:nvPr/>
        </p:nvPicPr>
        <p:blipFill>
          <a:blip r:embed="rId2"/>
          <a:stretch/>
        </p:blipFill>
        <p:spPr>
          <a:xfrm>
            <a:off x="-203040" y="-139680"/>
            <a:ext cx="10312200" cy="7137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639800" y="1600200"/>
            <a:ext cx="77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84" name="Freeform 14"/>
            <p:cNvSpPr/>
            <p:nvPr/>
          </p:nvSpPr>
          <p:spPr>
            <a:xfrm>
              <a:off x="6550920" y="1824480"/>
              <a:ext cx="311616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2836800" y="1695960"/>
              <a:ext cx="600660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22"/>
            <p:cNvSpPr/>
            <p:nvPr/>
          </p:nvSpPr>
          <p:spPr>
            <a:xfrm>
              <a:off x="3063600" y="1708200"/>
              <a:ext cx="592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26"/>
            <p:cNvSpPr/>
            <p:nvPr/>
          </p:nvSpPr>
          <p:spPr>
            <a:xfrm>
              <a:off x="6076440" y="1694880"/>
              <a:ext cx="358380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3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FB41A-FD34-46CE-BB63-D017D7389D12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4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Komponent Central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5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7D7B7-14B5-470A-9395-34E3135D48E9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32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prezentacja_podtytul"/>
          <p:cNvPicPr/>
          <p:nvPr/>
        </p:nvPicPr>
        <p:blipFill>
          <a:blip r:embed="rId5"/>
          <a:stretch/>
        </p:blipFill>
        <p:spPr>
          <a:xfrm>
            <a:off x="-203040" y="-139680"/>
            <a:ext cx="10312200" cy="713736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74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prezentacja_tytul"/>
          <p:cNvPicPr/>
          <p:nvPr/>
        </p:nvPicPr>
        <p:blipFill>
          <a:blip r:embed="rId5"/>
          <a:stretch/>
        </p:blipFill>
        <p:spPr>
          <a:xfrm>
            <a:off x="0" y="1440"/>
            <a:ext cx="9906120" cy="68551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znak_KAPITAL_LUDZKI"/>
          <p:cNvPicPr/>
          <p:nvPr/>
        </p:nvPicPr>
        <p:blipFill>
          <a:blip r:embed="rId6"/>
          <a:stretch/>
        </p:blipFill>
        <p:spPr>
          <a:xfrm>
            <a:off x="2143080" y="4716360"/>
            <a:ext cx="3457800" cy="16830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6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7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Komponent Central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8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220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ftr" idx="9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Komponent Central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sldNum" idx="10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263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ftr" idx="11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Komponent Central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sldNum" idx="12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ounded Rectangle 15"/>
          <p:cNvSpPr/>
          <p:nvPr/>
        </p:nvSpPr>
        <p:spPr>
          <a:xfrm>
            <a:off x="247680" y="228600"/>
            <a:ext cx="942012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9"/>
          <p:cNvGrpSpPr/>
          <p:nvPr/>
        </p:nvGrpSpPr>
        <p:grpSpPr>
          <a:xfrm>
            <a:off x="228600" y="5354640"/>
            <a:ext cx="9450360" cy="1330200"/>
            <a:chOff x="228600" y="5354640"/>
            <a:chExt cx="9450360" cy="1330200"/>
          </a:xfrm>
        </p:grpSpPr>
        <p:sp>
          <p:nvSpPr>
            <p:cNvPr id="306" name="Freeform 14"/>
            <p:cNvSpPr/>
            <p:nvPr/>
          </p:nvSpPr>
          <p:spPr>
            <a:xfrm>
              <a:off x="6558840" y="5499720"/>
              <a:ext cx="312012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8"/>
            <p:cNvSpPr/>
            <p:nvPr/>
          </p:nvSpPr>
          <p:spPr>
            <a:xfrm>
              <a:off x="2840040" y="5371200"/>
              <a:ext cx="601416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2"/>
            <p:cNvSpPr/>
            <p:nvPr/>
          </p:nvSpPr>
          <p:spPr>
            <a:xfrm>
              <a:off x="3067200" y="5383440"/>
              <a:ext cx="593136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6"/>
            <p:cNvSpPr/>
            <p:nvPr/>
          </p:nvSpPr>
          <p:spPr>
            <a:xfrm>
              <a:off x="6083640" y="5370120"/>
              <a:ext cx="358812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0"/>
            <p:cNvSpPr/>
            <p:nvPr/>
          </p:nvSpPr>
          <p:spPr>
            <a:xfrm>
              <a:off x="228600" y="5354640"/>
              <a:ext cx="945036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13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A8C2A-9DD1-4302-AF42-46A176EF751A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14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15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B2939-E10D-496B-8884-9A857EFD28CF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354" name="Freeform 14"/>
            <p:cNvSpPr/>
            <p:nvPr/>
          </p:nvSpPr>
          <p:spPr>
            <a:xfrm>
              <a:off x="6550920" y="1824480"/>
              <a:ext cx="311616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18"/>
            <p:cNvSpPr/>
            <p:nvPr/>
          </p:nvSpPr>
          <p:spPr>
            <a:xfrm>
              <a:off x="2836800" y="1695960"/>
              <a:ext cx="600660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3063600" y="1708200"/>
              <a:ext cx="592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26"/>
            <p:cNvSpPr/>
            <p:nvPr/>
          </p:nvSpPr>
          <p:spPr>
            <a:xfrm>
              <a:off x="6076440" y="1694880"/>
              <a:ext cx="358380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16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E0F2C-DD7E-4D2B-B442-F62950DDF097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17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18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790ED-50F6-49D4-933B-7D738F6E6078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72880" y="259920"/>
            <a:ext cx="8855280" cy="626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pl-PL" sz="4000" spc="-1" strike="noStrike">
                <a:solidFill>
                  <a:srgbClr val="ffffff"/>
                </a:solidFill>
                <a:latin typeface="Candara"/>
              </a:rPr>
              <a:t>Zasady kontraktowania </a:t>
            </a:r>
            <a:br>
              <a:rPr sz="4000"/>
            </a:br>
            <a:r>
              <a:rPr b="0" lang="pl-PL" sz="4000" spc="-1" strike="noStrike">
                <a:solidFill>
                  <a:srgbClr val="ffffff"/>
                </a:solidFill>
                <a:latin typeface="Candara"/>
              </a:rPr>
              <a:t>świadczeń opieki zdrowotnej</a:t>
            </a:r>
            <a:br>
              <a:rPr sz="4000"/>
            </a:br>
            <a:r>
              <a:rPr b="0" lang="pl-PL" sz="4000" spc="-1" strike="noStrike">
                <a:solidFill>
                  <a:srgbClr val="ffffff"/>
                </a:solidFill>
                <a:latin typeface="Candara"/>
              </a:rPr>
              <a:t>2019  </a:t>
            </a:r>
            <a:br>
              <a:rPr sz="4000"/>
            </a:br>
            <a:br>
              <a:rPr sz="4000"/>
            </a:br>
            <a:r>
              <a:rPr b="0" lang="pl-PL" sz="2200" spc="-1" strike="noStrike" u="sng">
                <a:solidFill>
                  <a:srgbClr val="ffffff"/>
                </a:solidFill>
                <a:uFillTx/>
                <a:latin typeface="Candara"/>
              </a:rPr>
              <a:t>w rodzaju</a:t>
            </a:r>
            <a:r>
              <a:rPr b="0" lang="pl-PL" sz="2200" spc="-1" strike="noStrike">
                <a:solidFill>
                  <a:srgbClr val="ffffff"/>
                </a:solidFill>
                <a:latin typeface="Candara"/>
              </a:rPr>
              <a:t>:</a:t>
            </a:r>
            <a:br>
              <a:rPr sz="2200"/>
            </a:br>
            <a:br>
              <a:rPr sz="2200"/>
            </a:br>
            <a:r>
              <a:rPr b="1" lang="pl-PL" sz="2200" spc="-1" strike="noStrike">
                <a:solidFill>
                  <a:srgbClr val="ffffff"/>
                </a:solidFill>
                <a:latin typeface="Candara"/>
              </a:rPr>
              <a:t>ŚWIADCZENIA PIELĘGNACYJNE I OPIEKUŃCZE</a:t>
            </a:r>
            <a:br>
              <a:rPr sz="2200"/>
            </a:br>
            <a:r>
              <a:rPr b="1" lang="pl-PL" sz="2200" spc="-1" strike="noStrike">
                <a:solidFill>
                  <a:srgbClr val="ffffff"/>
                </a:solidFill>
                <a:latin typeface="Candara"/>
              </a:rPr>
              <a:t>W RAMACH OPIEKI DŁUGOTERMINOWEJ </a:t>
            </a:r>
            <a:br>
              <a:rPr sz="2200"/>
            </a:br>
            <a:br>
              <a:rPr sz="2200"/>
            </a:br>
            <a:r>
              <a:rPr b="0" lang="pl-PL" sz="2200" spc="-1" strike="noStrike">
                <a:solidFill>
                  <a:srgbClr val="ffffff"/>
                </a:solidFill>
                <a:latin typeface="Candara"/>
              </a:rPr>
              <a:t>oraz</a:t>
            </a:r>
            <a:br>
              <a:rPr sz="2200"/>
            </a:br>
            <a:br>
              <a:rPr sz="2200"/>
            </a:br>
            <a:r>
              <a:rPr b="1" lang="pl-PL" sz="2200" spc="-1" strike="noStrike">
                <a:solidFill>
                  <a:srgbClr val="ffffff"/>
                </a:solidFill>
                <a:latin typeface="Candara"/>
              </a:rPr>
              <a:t>OPIEKA PALIATYWNA I HOSPICYJNA </a:t>
            </a:r>
            <a:br>
              <a:rPr sz="2200"/>
            </a:br>
            <a:br>
              <a:rPr sz="2200"/>
            </a:br>
            <a:r>
              <a:rPr b="0" lang="pl-PL" sz="4000" spc="-1" strike="noStrike">
                <a:solidFill>
                  <a:srgbClr val="ffffff"/>
                </a:solidFill>
                <a:latin typeface="Candara"/>
              </a:rPr>
              <a:t>- aspekty formalno-prawne</a:t>
            </a:r>
            <a:br>
              <a:rPr sz="2200"/>
            </a:br>
            <a:br>
              <a:rPr sz="2200"/>
            </a:br>
            <a:br>
              <a:rPr sz="22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rostokąt 1"/>
          <p:cNvSpPr/>
          <p:nvPr/>
        </p:nvSpPr>
        <p:spPr>
          <a:xfrm>
            <a:off x="200160" y="1166760"/>
            <a:ext cx="9289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§ 14. 1. Oferta w formie pisemnej powinna zawierać następujące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dokumenty i oświadczen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świadczenie oferenta o wpisach do rejestrów, według wzoru stanowiącego załącznik nr 2 do zarządzeni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) w przypadku oferentów wykonujących działalność leczniczą w formie spółki cywilnej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– kopię umowy spółki lub wyciąg z tej umowy zawierający postanowienie o zasada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reprezentacji spółki albo uchwałę wspólników spółki cywilnej w przedmiocie zasad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reprezentacji spółki lub kopie pełnomocnictw udzielonych przez pozostały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wspólników do prowadzenia spraw spółki wykraczających poza zwykłe czynności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unkty 3-5 dotyczą leczenia uzdrowiskowego, rehabilitacji leczniczej i  ratownictwa medycznego (zostały pominięte w tej prezentacj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ole tekstowe 1"/>
          <p:cNvSpPr/>
          <p:nvPr/>
        </p:nvSpPr>
        <p:spPr>
          <a:xfrm>
            <a:off x="776160" y="549360"/>
            <a:ext cx="856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Oświadczenie oferenta o wpisach do rejestrów, według wzoru stanowiącego </a:t>
            </a:r>
            <a:r>
              <a:rPr b="1" lang="pl-PL" sz="1600" spc="-1" strike="noStrike">
                <a:solidFill>
                  <a:srgbClr val="000000"/>
                </a:solidFill>
                <a:latin typeface="Candara"/>
              </a:rPr>
              <a:t>załącznik nr 2 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do zarządzenia nr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18/2017/DSOZ z dnia 14 marca 2017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rostokąt 4"/>
          <p:cNvSpPr/>
          <p:nvPr/>
        </p:nvSpPr>
        <p:spPr>
          <a:xfrm>
            <a:off x="776160" y="1989000"/>
            <a:ext cx="8569440" cy="23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0" name="Picture 2" descr=""/>
          <p:cNvPicPr/>
          <p:nvPr/>
        </p:nvPicPr>
        <p:blipFill>
          <a:blip r:embed="rId1"/>
          <a:stretch/>
        </p:blipFill>
        <p:spPr>
          <a:xfrm>
            <a:off x="1424160" y="1285920"/>
            <a:ext cx="6841800" cy="54561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rostokąt 1"/>
          <p:cNvSpPr/>
          <p:nvPr/>
        </p:nvSpPr>
        <p:spPr>
          <a:xfrm>
            <a:off x="2526480" y="147600"/>
            <a:ext cx="43610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2862aa"/>
                </a:solidFill>
                <a:latin typeface="Arial"/>
              </a:rPr>
              <a:t>Z jakich dokumentów składa się ofe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ole tekstowe 2"/>
          <p:cNvSpPr/>
          <p:nvPr/>
        </p:nvSpPr>
        <p:spPr>
          <a:xfrm>
            <a:off x="776160" y="701640"/>
            <a:ext cx="8569440" cy="24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Candara"/>
              </a:rPr>
              <a:t>c.d. </a:t>
            </a:r>
            <a:r>
              <a:rPr b="1" lang="pl-PL" sz="1700" spc="-1" strike="noStrike" u="sng">
                <a:solidFill>
                  <a:srgbClr val="000000"/>
                </a:solidFill>
                <a:uFillTx/>
                <a:latin typeface="Candara"/>
              </a:rPr>
              <a:t>Dokumenty i oświadczenia (składane do wszystkich postępowań) : </a:t>
            </a:r>
            <a:r>
              <a:rPr b="1" lang="pl-PL" sz="1700" spc="-1" strike="noStrike">
                <a:solidFill>
                  <a:srgbClr val="000000"/>
                </a:solidFill>
                <a:latin typeface="Candara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Kopię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olisy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lub innego dokumentu potwierdzającego zawarcie przez oferenta umowy ubezpieczenia odpowiedzialności cywilnej oferenta za szkody wyrządzone w związku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z udzielaniem świadczeń w zakresie przedmiotu postępowania na okres obowiązywania umowy;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oferent może złożyć także umowę przedwstępną (promesę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 lub inny dokument,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tym także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oświadczenie, stwierdzające, że umowa ubezpieczenia odpowiedzialności cywilnej zostanie zawarta na okres obowiązywania umowy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ole tekstowe 3"/>
          <p:cNvSpPr/>
          <p:nvPr/>
        </p:nvSpPr>
        <p:spPr>
          <a:xfrm>
            <a:off x="0" y="3068640"/>
            <a:ext cx="8848800" cy="29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Obowiązkowe ubezpieczenie odpowiedzialności cywilnej, stosowane odpowiednio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do formy prowadzonej działalności, wydane na podstawi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 algn="just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Rozporządzenia Ministra Finansów z dnia 22 grudnia 2011 r. w sprawie obowiązkowego ubezpieczenie odpowiedzialności cywilnej </a:t>
            </a:r>
            <a:r>
              <a:rPr b="0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podmiotu wykonującego działalność leczniczą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 (Dz. U. z 2011 r., Nr 293, poz. 1729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lbo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 algn="just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Rozporządzenia Ministra Finansów z dnia 22 grudnia 2011 r. w sprawie obowiązkowego ubezpieczenia odpowiedzialności cywilnej </a:t>
            </a:r>
            <a:r>
              <a:rPr b="0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świadczeniodawcy niebędącego podmiotem wykonującym działalność leczniczą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udzielającego świadczeń opieki zdrowotnej (Dz. U. z 2011 r., Nr 293, poz. 1728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ole tekstowe 2"/>
          <p:cNvSpPr/>
          <p:nvPr/>
        </p:nvSpPr>
        <p:spPr>
          <a:xfrm>
            <a:off x="3844800" y="1133640"/>
            <a:ext cx="1727280" cy="36828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Obowiązko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ole tekstowe 4"/>
          <p:cNvSpPr/>
          <p:nvPr/>
        </p:nvSpPr>
        <p:spPr>
          <a:xfrm>
            <a:off x="920880" y="1989000"/>
            <a:ext cx="2160360" cy="687960"/>
          </a:xfrm>
          <a:prstGeom prst="rect">
            <a:avLst/>
          </a:prstGeom>
          <a:solidFill>
            <a:srgbClr val="8fb5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Arial"/>
              </a:rPr>
              <a:t>OC podmiotu wykonującego działalność leczniczą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ole tekstowe 5"/>
          <p:cNvSpPr/>
          <p:nvPr/>
        </p:nvSpPr>
        <p:spPr>
          <a:xfrm>
            <a:off x="6969240" y="1944720"/>
            <a:ext cx="2087280" cy="885960"/>
          </a:xfrm>
          <a:prstGeom prst="rect">
            <a:avLst/>
          </a:prstGeom>
          <a:solidFill>
            <a:srgbClr val="8fb5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Arial"/>
              </a:rPr>
              <a:t>OC świadczeniodawcy niebędącego podmiotem wykonującym działalność leczniczą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AutoShape 4"/>
          <p:cNvSpPr/>
          <p:nvPr/>
        </p:nvSpPr>
        <p:spPr>
          <a:xfrm>
            <a:off x="2087640" y="189000"/>
            <a:ext cx="5976720" cy="57600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Ubezpieczenia odpowiedzialności cywilnej - medycz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8" name="Łącznik prosty ze strzałką 8"/>
          <p:cNvCxnSpPr/>
          <p:nvPr/>
        </p:nvCxnSpPr>
        <p:spPr>
          <a:xfrm>
            <a:off x="5816520" y="1503000"/>
            <a:ext cx="115344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79" name="Łącznik prosty ze strzałką 10"/>
          <p:cNvCxnSpPr/>
          <p:nvPr/>
        </p:nvCxnSpPr>
        <p:spPr>
          <a:xfrm flipH="1">
            <a:off x="2512440" y="1503000"/>
            <a:ext cx="10357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80" name="Łącznik prosty ze strzałką 12"/>
          <p:cNvCxnSpPr/>
          <p:nvPr/>
        </p:nvCxnSpPr>
        <p:spPr>
          <a:xfrm>
            <a:off x="4708080" y="85860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81" name="pole tekstowe 14"/>
          <p:cNvSpPr/>
          <p:nvPr/>
        </p:nvSpPr>
        <p:spPr>
          <a:xfrm>
            <a:off x="1179360" y="2881440"/>
            <a:ext cx="2665440" cy="58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OC lekarza lub lekarza dentys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(indywidualna/specjalistyczna praktyka lekarska)  (SG 75.000 euro/350.000 eur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Łącznik prostoliniowy 16"/>
          <p:cNvSpPr/>
          <p:nvPr/>
        </p:nvSpPr>
        <p:spPr>
          <a:xfrm>
            <a:off x="1014480" y="2681280"/>
            <a:ext cx="0" cy="305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Łącznik prostoliniowy 18"/>
          <p:cNvSpPr/>
          <p:nvPr/>
        </p:nvSpPr>
        <p:spPr>
          <a:xfrm flipV="1">
            <a:off x="1014480" y="3173040"/>
            <a:ext cx="164880" cy="21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rostokąt 19"/>
          <p:cNvSpPr/>
          <p:nvPr/>
        </p:nvSpPr>
        <p:spPr>
          <a:xfrm>
            <a:off x="1179360" y="3613320"/>
            <a:ext cx="2718000" cy="73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OC lekarza lub lekarza dentysty (spółk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cywilna, spółka jawna, spółka partnerska jako grupowa praktyka lekarska) (SG 75.000 euro/350.000 eur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Łącznik prostoliniowy 20"/>
          <p:cNvSpPr/>
          <p:nvPr/>
        </p:nvSpPr>
        <p:spPr>
          <a:xfrm flipV="1">
            <a:off x="1014480" y="3981600"/>
            <a:ext cx="164880" cy="3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rostokąt 30"/>
          <p:cNvSpPr/>
          <p:nvPr/>
        </p:nvSpPr>
        <p:spPr>
          <a:xfrm>
            <a:off x="1179360" y="4530600"/>
            <a:ext cx="2719440" cy="734760"/>
          </a:xfrm>
          <a:prstGeom prst="rect">
            <a:avLst/>
          </a:prstGeom>
          <a:noFill/>
          <a:ln w="9360">
            <a:solidFill>
              <a:srgbClr val="073e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OC pielęgniarki lub położnej (indywidualna/specjalistyczna praktyk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pielęgniarki lub położnej (SG 30.000 euro/150.000 eur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Łącznik prostoliniowy 37"/>
          <p:cNvSpPr/>
          <p:nvPr/>
        </p:nvSpPr>
        <p:spPr>
          <a:xfrm flipV="1">
            <a:off x="1014480" y="4900680"/>
            <a:ext cx="164880" cy="3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Łącznik prostoliniowy 44"/>
          <p:cNvSpPr/>
          <p:nvPr/>
        </p:nvSpPr>
        <p:spPr>
          <a:xfrm>
            <a:off x="3081240" y="256536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Łącznik prostoliniowy 46"/>
          <p:cNvSpPr/>
          <p:nvPr/>
        </p:nvSpPr>
        <p:spPr>
          <a:xfrm>
            <a:off x="4016520" y="2565360"/>
            <a:ext cx="0" cy="239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rostokąt 50"/>
          <p:cNvSpPr/>
          <p:nvPr/>
        </p:nvSpPr>
        <p:spPr>
          <a:xfrm>
            <a:off x="4264200" y="2406600"/>
            <a:ext cx="2260440" cy="982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OC pielęgniarki lub położnej (spółk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cywilna, spółka jawna, albo spółk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partnerska jako grupowa praktyk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pielęgniarki lub położnej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(SG 30.000 euro/150.000 eur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Łącznik prostoliniowy 55"/>
          <p:cNvSpPr/>
          <p:nvPr/>
        </p:nvSpPr>
        <p:spPr>
          <a:xfrm flipH="1">
            <a:off x="4005000" y="2898720"/>
            <a:ext cx="25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rostokąt 57"/>
          <p:cNvSpPr/>
          <p:nvPr/>
        </p:nvSpPr>
        <p:spPr>
          <a:xfrm>
            <a:off x="4270320" y="3613320"/>
            <a:ext cx="2273400" cy="76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OC pielęgniarki lub położnej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(indywidualna/specjalistyczna praktyka pielęgniarki lub położnej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(SG 30.000 euro/150.000 eur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Łącznik prostoliniowy 58"/>
          <p:cNvSpPr/>
          <p:nvPr/>
        </p:nvSpPr>
        <p:spPr>
          <a:xfrm flipH="1">
            <a:off x="4022640" y="3997440"/>
            <a:ext cx="247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rostokąt 65"/>
          <p:cNvSpPr/>
          <p:nvPr/>
        </p:nvSpPr>
        <p:spPr>
          <a:xfrm>
            <a:off x="4270320" y="4530600"/>
            <a:ext cx="2613240" cy="85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OC podmiotu leczniczego (stacjonarne i całodobowe świadczenia zdrowotne inne niż szpitalne oraz w zakresie ambulatoryjnych świadczeń zdrowotnych (SG 75.000 euro/350.000 eur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Łącznik prostoliniowy 67"/>
          <p:cNvSpPr/>
          <p:nvPr/>
        </p:nvSpPr>
        <p:spPr>
          <a:xfrm>
            <a:off x="4022640" y="4960800"/>
            <a:ext cx="247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rostokąt 71"/>
          <p:cNvSpPr/>
          <p:nvPr/>
        </p:nvSpPr>
        <p:spPr>
          <a:xfrm>
            <a:off x="7400880" y="3121200"/>
            <a:ext cx="2087640" cy="73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Osoby, które uzyskały fachow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uprawnienia do udzielania świadczeń zdrowotnych (SG 30.000 euro/150.000 eur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Łącznik prostoliniowy 73"/>
          <p:cNvSpPr/>
          <p:nvPr/>
        </p:nvSpPr>
        <p:spPr>
          <a:xfrm>
            <a:off x="7113600" y="2836800"/>
            <a:ext cx="0" cy="200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Łącznik prostoliniowy 75"/>
          <p:cNvSpPr/>
          <p:nvPr/>
        </p:nvSpPr>
        <p:spPr>
          <a:xfrm flipH="1">
            <a:off x="7113600" y="3490920"/>
            <a:ext cx="287280" cy="1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Łącznik prostoliniowy 78"/>
          <p:cNvSpPr/>
          <p:nvPr/>
        </p:nvSpPr>
        <p:spPr>
          <a:xfrm>
            <a:off x="7113600" y="48387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rostokąt 79"/>
          <p:cNvSpPr/>
          <p:nvPr/>
        </p:nvSpPr>
        <p:spPr>
          <a:xfrm>
            <a:off x="7400880" y="4465800"/>
            <a:ext cx="2087640" cy="100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Podmioty realizujące czynności z zakresu zaopatrzenia w środki pomocnicze i wyroby medyczne będące przedmiotami ortopedycznymi (SG 10.000 euro/50.000 Eur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rostokąt 83"/>
          <p:cNvSpPr/>
          <p:nvPr/>
        </p:nvSpPr>
        <p:spPr>
          <a:xfrm>
            <a:off x="1251000" y="5616720"/>
            <a:ext cx="495288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  <a:ea typeface="Arial"/>
              </a:rPr>
              <a:t>stacjonarne i całodobowe świadczenia zdrowotne – SZPITALNE – (SG 100.000 euro w odniesieniu do 1 zdarzenia /500.000 euro – w odniesieniu do wszystkich zdarzeń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Łącznik prostoliniowy 85"/>
          <p:cNvSpPr/>
          <p:nvPr/>
        </p:nvSpPr>
        <p:spPr>
          <a:xfrm flipH="1" flipV="1">
            <a:off x="1014120" y="5740200"/>
            <a:ext cx="2365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rostokąt 1"/>
          <p:cNvSpPr/>
          <p:nvPr/>
        </p:nvSpPr>
        <p:spPr>
          <a:xfrm>
            <a:off x="2526480" y="147600"/>
            <a:ext cx="43610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2862aa"/>
                </a:solidFill>
                <a:latin typeface="Arial"/>
              </a:rPr>
              <a:t>Z jakich dokumentów składa się ofe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ole tekstowe 2"/>
          <p:cNvSpPr/>
          <p:nvPr/>
        </p:nvSpPr>
        <p:spPr>
          <a:xfrm>
            <a:off x="344520" y="673200"/>
            <a:ext cx="9217080" cy="66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700" spc="-1" strike="noStrike">
                <a:solidFill>
                  <a:srgbClr val="000000"/>
                </a:solidFill>
                <a:latin typeface="Candara"/>
              </a:rPr>
              <a:t>c.d. </a:t>
            </a:r>
            <a:r>
              <a:rPr b="1" lang="pl-PL" sz="1700" spc="-1" strike="noStrike" u="sng">
                <a:solidFill>
                  <a:srgbClr val="000000"/>
                </a:solidFill>
                <a:uFillTx/>
                <a:latin typeface="Candara"/>
              </a:rPr>
              <a:t>Dokumenty i oświadczenia (składane do wszystkich postępowań)</a:t>
            </a:r>
            <a:r>
              <a:rPr b="1" lang="pl-PL" sz="1700" spc="-1" strike="noStrike">
                <a:solidFill>
                  <a:srgbClr val="000000"/>
                </a:solidFill>
                <a:latin typeface="Candara"/>
              </a:rPr>
              <a:t> : 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7) W przypadku, gdy w warunkach zawierania umów lub we wzorze umowy, dopuszczone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    jest zlecenie podwykonawcom udzielania świadczeń opieki zdrowotnej objętych umową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    - kopię zawartej umowy z podwykonawcą (bez postanowień określających finansowanie)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    albo zobowiązanie podwykonawcy do zawarcia umowy z oferentem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mowa zawarta z podwykonawc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albo  zobowiązanie podwykonawcy do zawarcia umowy z oferentem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usi zawierać zastrzeżenie o prawie Oddziału Funduszu do przeprowadzenia </a:t>
            </a:r>
            <a:br>
              <a:rPr sz="1600"/>
            </a:b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kontroli podwykonawcy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70c0"/>
                </a:solidFill>
                <a:latin typeface="Arial"/>
              </a:rPr>
              <a:t>na zasadach określonych w ustawie z dnia 27 sierpnia 2004 rok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70c0"/>
                </a:solidFill>
                <a:latin typeface="Arial"/>
              </a:rPr>
              <a:t>o świadczeniach opieki zdrowotnej finansowanych ze środków publicznych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0070c0"/>
                </a:solidFill>
                <a:latin typeface="Arial"/>
              </a:rPr>
              <a:t>w zakresie wynikającym z umowy zawartej z dyrektorem oddziału Fundusz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BRAK POWYŻSZEJ KLAUZULI TRAKTOWANY JEST JAKO BRAK FORMALNY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2060"/>
                </a:solidFill>
                <a:latin typeface="Arial"/>
              </a:rPr>
              <a:t>Brak umów wymienionych w wykazie  TRAKTOWANY JEST JAKO BRAK FORMAL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 umowie podwykonawczej musi zostać jednocześnie określony przedmiot powykonywanych świadczeń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rostokąt 1"/>
          <p:cNvSpPr/>
          <p:nvPr/>
        </p:nvSpPr>
        <p:spPr>
          <a:xfrm>
            <a:off x="2526480" y="147600"/>
            <a:ext cx="43610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2862aa"/>
                </a:solidFill>
                <a:latin typeface="Arial"/>
              </a:rPr>
              <a:t>Z jakich dokumentów składa się ofe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ole tekstowe 2"/>
          <p:cNvSpPr/>
          <p:nvPr/>
        </p:nvSpPr>
        <p:spPr>
          <a:xfrm>
            <a:off x="776160" y="701640"/>
            <a:ext cx="8569440" cy="33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700" spc="-1" strike="noStrike" u="sng">
                <a:solidFill>
                  <a:srgbClr val="000000"/>
                </a:solidFill>
                <a:uFillTx/>
                <a:latin typeface="Candara"/>
              </a:rPr>
              <a:t>Dokumenty i oświadczenia (składane do wszystkich postępowań) : </a:t>
            </a:r>
            <a:r>
              <a:rPr b="1" lang="pl-PL" sz="1700" spc="-1" strike="noStrike">
                <a:solidFill>
                  <a:srgbClr val="000000"/>
                </a:solidFill>
                <a:latin typeface="Candara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8) W przypadku, gdy oferent nie przedstawi kopii umów z podwykonawcami – oświadczenie,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że będzie wykonywał umowę samodzielnie bez zlecania podwykonawcom udzielania świadczeń będących przedmiotem umowy</a:t>
            </a:r>
            <a:r>
              <a:rPr b="0" lang="pl-PL" sz="1700" spc="-1" strike="noStrike">
                <a:solidFill>
                  <a:srgbClr val="000000"/>
                </a:solidFill>
                <a:latin typeface="Candara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przypadku, gdy w warunkach zawierania umów lub we wzorze umowy, dopuszczone jest zlecanie podwykonawcom udzielania świadczeń opieki zdrowotnej objętych umową </a:t>
            </a:r>
            <a:br>
              <a:rPr sz="1600"/>
            </a:b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kopię zawartej umowy z podwykonawcą (bez postanowień określających finansowanie) albo zobowiązanie podwykonawcy do zawarcia umowy z oferentem, zawierające zastrzeżenie o prawie Funduszu do przeprowadzenia kontroli na zasadach określonych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ustawie, w zakresie wynikającym z umowy zawartej z dyrektorem oddziałem Funduszu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AutoShape 4"/>
          <p:cNvSpPr/>
          <p:nvPr/>
        </p:nvSpPr>
        <p:spPr>
          <a:xfrm>
            <a:off x="961920" y="4292640"/>
            <a:ext cx="3745080" cy="180036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500" spc="-1" strike="noStrike" u="sng">
                <a:solidFill>
                  <a:srgbClr val="000000"/>
                </a:solidFill>
                <a:uFillTx/>
                <a:latin typeface="Arial"/>
              </a:rPr>
              <a:t>Samodzielna</a:t>
            </a: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 realizacja świadczeń przez Oferenta - wymagan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500" spc="-1" strike="noStrike">
                <a:solidFill>
                  <a:srgbClr val="000000"/>
                </a:solidFill>
                <a:latin typeface="Arial"/>
              </a:rPr>
              <a:t>OŚWIADCZENIE O SAMODZIELNEJ REALIZACJI ŚWIADCZEŃ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AutoShape 4"/>
          <p:cNvSpPr/>
          <p:nvPr/>
        </p:nvSpPr>
        <p:spPr>
          <a:xfrm>
            <a:off x="5060880" y="4292640"/>
            <a:ext cx="4213440" cy="194472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Realizacja świadczeń przy udziale </a:t>
            </a:r>
            <a:r>
              <a:rPr b="1" lang="pl-PL" sz="1500" spc="-1" strike="noStrike" u="sng">
                <a:solidFill>
                  <a:srgbClr val="000000"/>
                </a:solidFill>
                <a:uFillTx/>
                <a:latin typeface="Arial"/>
              </a:rPr>
              <a:t>podwykonawców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-  wymagan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YKAZ PODWYKONAWCÓW ORAZ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UMOWY Z PODWYKONAWCAMI ZAWIERAJĄCE ZASTRZEŻENIE O PRAWIE FUNDUSZU DO PRZEPROWADZENIA KONTROL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rostokąt 2"/>
          <p:cNvSpPr/>
          <p:nvPr/>
        </p:nvSpPr>
        <p:spPr>
          <a:xfrm>
            <a:off x="2526480" y="147600"/>
            <a:ext cx="43610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2862aa"/>
                </a:solidFill>
                <a:latin typeface="Arial"/>
              </a:rPr>
              <a:t>Z jakich dokumentów składa się ofe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ole tekstowe 3"/>
          <p:cNvSpPr/>
          <p:nvPr/>
        </p:nvSpPr>
        <p:spPr>
          <a:xfrm>
            <a:off x="776160" y="701640"/>
            <a:ext cx="856944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700" spc="-1" strike="noStrike" u="sng">
                <a:solidFill>
                  <a:srgbClr val="000000"/>
                </a:solidFill>
                <a:uFillTx/>
                <a:latin typeface="Candara"/>
              </a:rPr>
              <a:t>Oferta w formie pisemnej powinna zawierać następujące dokumenty i oświadczenia (składane do wszystkich postępowań) : </a:t>
            </a:r>
            <a:r>
              <a:rPr b="1" lang="pl-PL" sz="1700" spc="-1" strike="noStrike">
                <a:solidFill>
                  <a:srgbClr val="000000"/>
                </a:solidFill>
                <a:latin typeface="Candara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9) Oświadczenie zgodne ze wzorem określonym w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załączniku nr 3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do zarządzenia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- oświadczenie  świadczeniodawcy o zapoznaniu się z istotnymi dokumentami niezbędnymi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do przeprowadzenia postępowania oraz do posiadania tytułów prawnych do korzystania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z lokali, sprzętu, aparatury medycznej i środków transportu w miejscach udzielania świadcze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1" name="Picture 9" descr=""/>
          <p:cNvPicPr/>
          <p:nvPr/>
        </p:nvPicPr>
        <p:blipFill>
          <a:blip r:embed="rId1"/>
          <a:stretch/>
        </p:blipFill>
        <p:spPr>
          <a:xfrm>
            <a:off x="4937040" y="3643200"/>
            <a:ext cx="28800" cy="288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2" name="Picture 3" descr=""/>
          <p:cNvPicPr/>
          <p:nvPr/>
        </p:nvPicPr>
        <p:blipFill>
          <a:blip r:embed="rId1"/>
          <a:stretch/>
        </p:blipFill>
        <p:spPr>
          <a:xfrm>
            <a:off x="1352520" y="260280"/>
            <a:ext cx="7272360" cy="65977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rostokąt 1"/>
          <p:cNvSpPr/>
          <p:nvPr/>
        </p:nvSpPr>
        <p:spPr>
          <a:xfrm>
            <a:off x="560520" y="1484280"/>
            <a:ext cx="885636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spcBef>
                <a:spcPts val="400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10) w przypadku, gdy oferent jest reprezentowany przez pełnomocnika –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ełnomocnictwo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do składania oświadczeń woli w imieniu oferenta, w szczególności do złożenia oferty, udzielone przez osobę lub osoby, których prawo do reprezentowania oferenta wynika z dokumentów przedstawionych wraz z ofert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00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11) pełnomocnictwo, o którym mowa w art. 132a ust. 2 ustawy, o ile są spełnione przesłanki określone w art. 132a ustawy (gdy świadczeniodawcy ubiegają się wspólnie o zawarcie umowy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00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12) w przypadku, gdy oferent wyraża zgodę na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doręczanie przez komisję konkursową oświadczeń i zawiadomień za pośrednictwem środków komunikacji elektronicznej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- zgodę oferenta, o której mowa w § 5 ust. 3 rozporządzenia ministra właściwego do spraw zdrowia wydanego na podstawie art.139 ust. 9 ustawy. Oferent wyraża zgodę w szczególności przez wypełnienie i załączenie do oferty formularza, którego wzór określony jest w załączniku nr 9 do zarządzeni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00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13) inne dokumenty lub oświadczenia, jeżeli obowiązek dołączenia ich do oferty został określony w warunkach zawierania umó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00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ośnik elektroniczny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00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Kopie dokumentów muszą być poświadczone za zgodność z oryginałem przez osoby uprawnione do reprezentowania oferen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rostokąt 2"/>
          <p:cNvSpPr/>
          <p:nvPr/>
        </p:nvSpPr>
        <p:spPr>
          <a:xfrm>
            <a:off x="1143000" y="266760"/>
            <a:ext cx="806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.d.dokumenty i oświadczenia (składane do wszystkich postępowa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rostokąt 1"/>
          <p:cNvSpPr/>
          <p:nvPr/>
        </p:nvSpPr>
        <p:spPr>
          <a:xfrm>
            <a:off x="488880" y="476280"/>
            <a:ext cx="8928000" cy="51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W przypadku, gdy w dniu składania oferty oddział Funduszu jest w  posiadaniu dokumentów,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o których mowa w § 14 ust. 1 pkt 2, 3 i 6 Zarządzenia nr 18/2017/DSOZ z dnia 14 marca 2017 roku (dotyczy tylko  </a:t>
            </a:r>
            <a:r>
              <a:rPr b="1" lang="pl-PL" sz="1600" spc="-1" strike="noStrike" u="sng">
                <a:solidFill>
                  <a:srgbClr val="000000"/>
                </a:solidFill>
                <a:uFillTx/>
                <a:latin typeface="Candara"/>
              </a:rPr>
              <a:t>kopii umowy spółki cywilnej, </a:t>
            </a:r>
            <a:r>
              <a:rPr b="1" lang="pl-PL" sz="1600" spc="-1" strike="noStrike">
                <a:solidFill>
                  <a:srgbClr val="000000"/>
                </a:solidFill>
                <a:latin typeface="Candara"/>
              </a:rPr>
              <a:t>kopia umowy na korzystanie z usług świadczonych przez zakład posiadający koncesję na eksploatacje naturalnych surowców leczniczych</a:t>
            </a:r>
            <a:r>
              <a:rPr b="1" lang="pl-PL" sz="1600" spc="-1" strike="noStrike" u="sng">
                <a:solidFill>
                  <a:srgbClr val="000000"/>
                </a:solidFill>
                <a:uFillTx/>
                <a:latin typeface="Candara"/>
              </a:rPr>
              <a:t>, kopii polisy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),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a potwierdzony w nich stan prawny lub faktyczny nie uległ zmianie, oferent może złożyć oświadczenie zgodne ze wzorem określonym w załączniku nr 4 ww. do zarządze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rostokąt 1"/>
          <p:cNvSpPr/>
          <p:nvPr/>
        </p:nvSpPr>
        <p:spPr>
          <a:xfrm>
            <a:off x="987840" y="291960"/>
            <a:ext cx="793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6600"/>
                </a:solidFill>
                <a:latin typeface="Arial"/>
              </a:rPr>
              <a:t>Podstawy prawne przeprowadzenia procesu kontraktowania świadcze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ole tekstowe 2"/>
          <p:cNvSpPr/>
          <p:nvPr/>
        </p:nvSpPr>
        <p:spPr>
          <a:xfrm>
            <a:off x="57240" y="662040"/>
            <a:ext cx="9575640" cy="63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Ustawa z dnia 27 sierpnia 2004 r. o świadczeniach opieki zdrowotnej finansowany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ze środków publicznych (tj. Dz.U. 2018 poz. 1510 z późn. zm.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Ustawa z dnia 15 kwietnia 2011 r. o działalności leczniczej (tj. Dz.U. 2018 r. poz. 160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Rozporządzenie Ministra Zdrowia z dnia 8 września 2015 r. w sprawie ogólnych warunków umów o udzielanie świadczeń opieki zdrowotnej (Dz. U. z 2016 r., poz.1146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z późn. zm.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Rozporządzenie Ministra Zdrowia z dnia 22 grudnia 2014 r. w sprawie sposobu ogłaszania o postępowaniu w sprawie zawarcia umowy o udzielanie świadczeń opieki zdrowotnej, składania ofert, powoływania i powoływania komisji konkursowych,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jej zadań oraz trybu pracy (Dz. U. 2018, poz. 1897)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Zarządzenie nr 18/2017/DSOZ Prezesa Narodowego Funduszu Zdrowia z dnia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14 marca 2017 r. w sprawie warunków postępowania dotyczącego zawierania umów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o udzielanie świadczeń opieki zdrowotnej (z późn. zm.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ZARZĄDZENIE WEWNĘTRZNE DYREKTORA ŚLĄSKIEGO ODDZIAŁU WOJEWÓDZKIEGO NARODOWEGO FUNDUSZU ZDROWIA W KATOWICA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Nr 179/2015 z dnia 5 listopada 2015 r. w sprawie wprowadzenia zasad weryfikacji oferentów uczestniczących w postępowaniach poprzedzających zawarcie umów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o udzielanie świadczeń opieki zdrowotnej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rostokąt 1"/>
          <p:cNvSpPr/>
          <p:nvPr/>
        </p:nvSpPr>
        <p:spPr>
          <a:xfrm>
            <a:off x="849240" y="692280"/>
            <a:ext cx="849636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Picture 2" descr=""/>
          <p:cNvPicPr/>
          <p:nvPr/>
        </p:nvPicPr>
        <p:blipFill>
          <a:blip r:embed="rId1"/>
          <a:stretch/>
        </p:blipFill>
        <p:spPr>
          <a:xfrm>
            <a:off x="1928880" y="476280"/>
            <a:ext cx="6480000" cy="59054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rostokąt 1"/>
          <p:cNvSpPr/>
          <p:nvPr/>
        </p:nvSpPr>
        <p:spPr>
          <a:xfrm>
            <a:off x="920880" y="620640"/>
            <a:ext cx="82803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 u="sng">
                <a:solidFill>
                  <a:srgbClr val="000000"/>
                </a:solidFill>
                <a:uFillTx/>
                <a:latin typeface="Candara"/>
              </a:rPr>
              <a:t>Załącznik nr 6 </a:t>
            </a: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do warunków postępowan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tj.: 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</a:rPr>
              <a:t>Wzór podpisu i parafy osoby podpisującej formularz ofertowy i ofert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9" name="Picture 14" descr="MC900379929[1]"/>
          <p:cNvPicPr/>
          <p:nvPr/>
        </p:nvPicPr>
        <p:blipFill>
          <a:blip r:embed="rId1"/>
          <a:stretch/>
        </p:blipFill>
        <p:spPr>
          <a:xfrm rot="169200">
            <a:off x="1767960" y="3057480"/>
            <a:ext cx="1119240" cy="2597040"/>
          </a:xfrm>
          <a:prstGeom prst="rect">
            <a:avLst/>
          </a:prstGeom>
          <a:ln w="0">
            <a:noFill/>
          </a:ln>
        </p:spPr>
      </p:pic>
      <p:pic>
        <p:nvPicPr>
          <p:cNvPr id="920" name="Picture 4" descr=""/>
          <p:cNvPicPr/>
          <p:nvPr/>
        </p:nvPicPr>
        <p:blipFill>
          <a:blip r:embed="rId2"/>
          <a:stretch/>
        </p:blipFill>
        <p:spPr>
          <a:xfrm>
            <a:off x="3368520" y="1844640"/>
            <a:ext cx="5688000" cy="40212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/>
          </p:nvPr>
        </p:nvSpPr>
        <p:spPr>
          <a:xfrm>
            <a:off x="415440" y="1413000"/>
            <a:ext cx="8858520" cy="50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5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Zgodnie z art. 135 ust. 2 pkt 2 ustawy z dnia 27 sierpnia 2004 r. o świadczeniach opieki zdrowotnej finansowanych ze środków publicznych, oferent może złożyć oświadczenie, w którym wnosi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o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Candara"/>
              </a:rPr>
              <a:t>zastrzeżenie informacji 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znajdujących się w ofercie, stanowiących tajemnicę przedsiębiorcy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5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73e87"/>
                </a:solidFill>
                <a:latin typeface="Candara"/>
              </a:rPr>
              <a:t>UWAGA!</a:t>
            </a:r>
            <a:r>
              <a:rPr b="1" lang="pl-PL" sz="1800" spc="-1" strike="noStrike">
                <a:solidFill>
                  <a:srgbClr val="ff0000"/>
                </a:solidFill>
                <a:latin typeface="Candara"/>
              </a:rPr>
              <a:t>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5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5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Candara"/>
              </a:rPr>
              <a:t>NIEDOPUSZCZALNE JEST ZASTRZEŻENIE CAŁEJ OFERTY!!!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5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title"/>
          </p:nvPr>
        </p:nvSpPr>
        <p:spPr>
          <a:xfrm>
            <a:off x="415440" y="404640"/>
            <a:ext cx="916308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pl-PL" sz="1600" spc="-1" strike="noStrike" u="sng">
                <a:solidFill>
                  <a:srgbClr val="000000"/>
                </a:solidFill>
                <a:uFillTx/>
                <a:latin typeface="Candara"/>
              </a:rPr>
              <a:t>Załącznik nr 8 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do warunków postępowania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tj.: </a:t>
            </a:r>
            <a:r>
              <a:rPr b="1" lang="pl-PL" sz="1600" spc="-1" strike="noStrike">
                <a:solidFill>
                  <a:srgbClr val="000000"/>
                </a:solidFill>
                <a:latin typeface="Candara"/>
              </a:rPr>
              <a:t>Oświadczenie oferenta o zastrzeżeniu informacji stanowiących tajemnicę przedsiębiorcy</a:t>
            </a:r>
            <a:endParaRPr b="0" lang="en-US" sz="1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rostokąt 2"/>
          <p:cNvSpPr/>
          <p:nvPr/>
        </p:nvSpPr>
        <p:spPr>
          <a:xfrm>
            <a:off x="272880" y="1550880"/>
            <a:ext cx="9433080" cy="44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OŚWIADCZENIE OFERENTA O ZASTRZEŻENIU INFORMACJ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STANOWIĄCYCH TAJEMNICĘ PRZEDSIĘBIORC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Zgodnie z art. 135 ust. 2 pkt 2 ustawy z dnia 27 sierpnia 2004 r. o świadczeniach opieki zdrowotnej finansowanych ze środków publicznych (Dz. U. z 2008 r.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Nr 164, poz.1027, późn. zm.) wnoszę o zastrzeżenie w złożonej przeze mnie ofercie następujących informacji, stanowiących tajemnicę przedsiębiorcy: Element oferty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Zastrzegam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1. Wykaz podwykonawcó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2. Wykaz personel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3. Wykaz sprzęt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4. Wykaz pojazdó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5. Wykaz pomieszcze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6. Wykaz miejsc udzielania świadczeń z danymi identyfikacyjnymi, obejmujący również miejsca udzielania świadczeń przez podwykonawcó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7. Ofertę w zakresie liczby i ceny dla przedmiotu postępowania i miejsca udzielania świadcze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8. Harmonogram udzielania świadczeń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Harmonogram pracy personelu lub jego dostępność godzinow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10. Ankiety dotyczące danego postępowania w części zawierającej informacje zastrzeżone, wskazane w l.p. 1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Narrow"/>
              </a:rPr>
              <a:t>11. Inne, niż wymienione w l.p. 1-10, informacj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/>
          </p:nvPr>
        </p:nvSpPr>
        <p:spPr>
          <a:xfrm>
            <a:off x="415440" y="1341000"/>
            <a:ext cx="885852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indent="0" algn="just">
              <a:lnSpc>
                <a:spcPct val="15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Na podstawie § 5 ust. 3 rozporządzenia Ministra Zdrowia z dnia 22 grudnia 2014 r. w sprawie sposobu ogłaszania o postępowaniu w sprawie zawarcia umowy o udzielanie świadczeń opieki zdrowotnej, składania ofert powoływania i odwoływania komisji konkursowej, jej zadań oraz trybu pracy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(Dz. U. poz. 1980, z późn. zm.) </a:t>
            </a:r>
            <a:r>
              <a:rPr b="1" lang="pl-PL" sz="1600" spc="-1" strike="noStrike">
                <a:solidFill>
                  <a:srgbClr val="000000"/>
                </a:solidFill>
                <a:latin typeface="Candara"/>
              </a:rPr>
              <a:t>oferent może wyrazić zgodę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Candara"/>
              </a:rPr>
              <a:t>na doręczanie przez komisję konkursową oświadczeń i zawiadomień za pośrednictwem środków komunikacji elektronicznej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, bez zachowania wymogów dotyczących bezpiecznego podpisu elektronicznego w rozumieniu art. 3 pkt 10 rozporządzenia Parlamentu Europejskiego i Rady (UE) nr 910/2014 z dnia 23 lipca 2014 r. w sprawie identyfikacji elektronicznej i usług zaufania w odniesieniu do transakcji elektronicznych na rynku wewnętrznym oraz uchylającego dyrektywę 1999/93/WE (Dz. Urz. UE L 257 z 28.08.2014, str. 73)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title"/>
          </p:nvPr>
        </p:nvSpPr>
        <p:spPr>
          <a:xfrm>
            <a:off x="415440" y="404280"/>
            <a:ext cx="916308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pl-PL" sz="1600" spc="-1" strike="noStrike" u="sng">
                <a:solidFill>
                  <a:srgbClr val="000000"/>
                </a:solidFill>
                <a:uFillTx/>
                <a:latin typeface="Candara"/>
              </a:rPr>
              <a:t>Załącznik nr 9 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do warunków postępowania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tj.: </a:t>
            </a:r>
            <a:r>
              <a:rPr b="1" lang="pl-PL" sz="1600" spc="-1" strike="noStrike">
                <a:solidFill>
                  <a:srgbClr val="000000"/>
                </a:solidFill>
                <a:latin typeface="Candara"/>
              </a:rPr>
              <a:t>ZGODA NA DORĘCZANIE PRZEZ KOMISJĘ KONKURSOWĄ </a:t>
            </a:r>
            <a:br>
              <a:rPr sz="1600"/>
            </a:br>
            <a:r>
              <a:rPr b="1" lang="pl-PL" sz="1600" spc="-1" strike="noStrike">
                <a:solidFill>
                  <a:srgbClr val="000000"/>
                </a:solidFill>
                <a:latin typeface="Candara"/>
              </a:rPr>
              <a:t>OŚWIADCZEŃ I ZAWIADOMIEŃ ZA POŚREDNICTWEM ŚRODKÓW KOMUNIKACJI ELEKTRONICZNEJ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AutoShape 4"/>
          <p:cNvSpPr/>
          <p:nvPr/>
        </p:nvSpPr>
        <p:spPr>
          <a:xfrm>
            <a:off x="920880" y="1125360"/>
            <a:ext cx="8353440" cy="64800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ozumie się przez to pisemną, zunifikowaną część oferty zawierającą </a:t>
            </a:r>
            <a:br>
              <a:rPr sz="1600"/>
            </a:br>
            <a:r>
              <a:rPr b="1" lang="pl-PL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fertę rzeczową i cenową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raz z opisem proponowanego potencjału wykonawczego oferenta i odpowiedziami na pytania ankietow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rostokąt 6"/>
          <p:cNvSpPr/>
          <p:nvPr/>
        </p:nvSpPr>
        <p:spPr>
          <a:xfrm>
            <a:off x="2073240" y="523800"/>
            <a:ext cx="61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Formularz ofertow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rostokąt 8"/>
          <p:cNvSpPr/>
          <p:nvPr/>
        </p:nvSpPr>
        <p:spPr>
          <a:xfrm>
            <a:off x="631800" y="1989000"/>
            <a:ext cx="9001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For</a:t>
            </a:r>
            <a:r>
              <a:rPr b="1" lang="pl-PL" sz="1400" spc="-1" strike="noStrike" u="sng">
                <a:solidFill>
                  <a:srgbClr val="000000"/>
                </a:solidFill>
                <a:uFillTx/>
                <a:latin typeface="Calibri"/>
              </a:rPr>
              <a:t>mularz ofertowy zawier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dane identyfikacyjne oferent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wykaz podwykonawców z informacją o umowach podwykonawstwa, w przypadku gdy w warunkach zawierania umów lub we wzorze umowy dopuszczone jest zlecanie podwykonawcom udzielania świadczeń opieki zdrowotnej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wykaz personelu z opisem kompetencji; </a:t>
            </a:r>
            <a:r>
              <a:rPr b="0" lang="pl-PL" sz="1400" spc="-1" strike="noStrike" u="sng">
                <a:solidFill>
                  <a:srgbClr val="000000"/>
                </a:solidFill>
                <a:uFillTx/>
                <a:latin typeface="Calibri"/>
              </a:rPr>
              <a:t>oferent obowiązany jest udokumentować gotowość udzielania świadczeń od pierwszego dnia obowiązywania umowy o udzielanie świadczeń opieki zdrowotnej przez każdą z wymienionych w wykazie osób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. Dokumentem potwierdzającym gotowość udzielania świadczeń jest zawarta z oferentem lub podwykonawcą umowa cywilnoprawna, w szczególności umowa o pracę lub pisemne zobowiązanie do zawarcia jednej z ww. umów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wykaz zasobów (sprzętu, pojazdów, pomieszczeń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wykaz miejsc udzielania świadczeń z danymi identyfikacyjnymi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ofertę w zakresie liczby  i ceny dla przedmiotu postępowania i miejsca udzielania świadczeń, w tym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6600"/>
              </a:buClr>
              <a:buSzPct val="75000"/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potencjał wykonawczy dla przedmiotu postępowania i miejsca udzielania świadczeń na podstawie wykazów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6600"/>
              </a:buClr>
              <a:buSzPct val="75000"/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harmonogram udzielania świadczeń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6600"/>
              </a:buClr>
              <a:buSzPct val="75000"/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harmonogram pracy personelu lub jego ogólną dostępność godzinową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ankiety dotyczące danego postępowa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rostokąt 1"/>
          <p:cNvSpPr/>
          <p:nvPr/>
        </p:nvSpPr>
        <p:spPr>
          <a:xfrm>
            <a:off x="849240" y="333360"/>
            <a:ext cx="8207280" cy="72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 u="sng">
                <a:solidFill>
                  <a:srgbClr val="000000"/>
                </a:solidFill>
                <a:uFillTx/>
                <a:latin typeface="Candara"/>
              </a:rPr>
              <a:t>Do najczęstszych błędów podczas składania oferty zalicza się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składanie niewypełnionych bądź niepodpisanych oświadczeń lub oświadczenie nie zostało podpisane przez osobę uprawnioną do reprezentacji podmiotu składającego ofertę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składanie obligatoryjnych oświadczeń przez oferenta wg nieaktualnych wzorów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brak podpisów i numeracji stron (podpisane i opatrzone kolejnym numerem muszą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  być zarówno formularz ofertowy, jak i wszystkie załączniki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brak zastrzeżenia o prawie Funduszu do przeprowadzenia kontroli na zasadach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   określonych w ustawie z dnia 27 sierpnia 2004 r. o świadczeniach opieki zdrowotnej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   finansowanych ze środków publicznych (t.j. DzU 2018 r. poz.1510 z późn. zm.) w zakresie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   wynikającym z umowy zawartej z dyrektorem oddziału Funduszu w umowach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   z podwykonawcami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brak załączonych do oferty umów z podwykonawcami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brak w ofercie szczegółowych danych identyfikacyjnych oferenta bądź przedłożenie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   nieaktualnych danych kontaktowych (w ofercie należy podać taki numer telefonu oferenta,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   który umożliwi możliwie najszybszy i najskuteczniejszy kontakt z oferente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rostokąt 1"/>
          <p:cNvSpPr/>
          <p:nvPr/>
        </p:nvSpPr>
        <p:spPr>
          <a:xfrm>
            <a:off x="849240" y="620640"/>
            <a:ext cx="8207280" cy="59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w przypadku gdy oferent reprezentowany jest przez pełnomocnik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      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- brak pełnomocnictwa do składania oświadczeń woli w imieniu oferenta, w szczególności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      do złożenia oferty udzielonego przez osobę lub osoby, których prawo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       do reprezentowania oferenta wynika z dokumentów przedstawionych wraz z ofertą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brak przedłożonego w ofercie załącznika stanowiącego wzór podpisu i parafy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brak możliwości odczytu treści nośnika elektronicznego przesłanego przez świadczeniodawcę – wersja elektroniczna oferty (oferta w wersji elektronicznej zapisana w niepoprawnym formacie, brak zapisanego pliku na nośniku elektronicznym,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brak nośnika elektronicznego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brak załączonej w ofercie umowy OC lub umowa OC zawiera niepełny okres ubezpieczenia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w przypadku, gdy oferent wykonywał będzie umowę samodzielnie – brak oświadczenia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o samodzielnym wykonywaniu umowy (bez zlecania podwykonawcom udzielania świadczeń będących przedmiotem umowy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Rectangle 1"/>
          <p:cNvSpPr/>
          <p:nvPr/>
        </p:nvSpPr>
        <p:spPr>
          <a:xfrm>
            <a:off x="-1800" y="1080"/>
            <a:ext cx="8848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e36c0a"/>
                </a:solidFill>
                <a:latin typeface="Arial"/>
                <a:ea typeface="Calibri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rostokąt 5"/>
          <p:cNvSpPr/>
          <p:nvPr/>
        </p:nvSpPr>
        <p:spPr>
          <a:xfrm>
            <a:off x="1639800" y="549360"/>
            <a:ext cx="66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2862aa"/>
                </a:solidFill>
                <a:latin typeface="Candara"/>
              </a:rPr>
              <a:t>System oceny of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AutoShape 4"/>
          <p:cNvSpPr/>
          <p:nvPr/>
        </p:nvSpPr>
        <p:spPr>
          <a:xfrm>
            <a:off x="488880" y="981000"/>
            <a:ext cx="9217080" cy="79236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Ocena ofert pod względem </a:t>
            </a:r>
            <a:r>
              <a:rPr b="1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spełniania wymogów formalno – prawnych 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dotyczy sprawdzeni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 Box 13"/>
          <p:cNvSpPr/>
          <p:nvPr/>
        </p:nvSpPr>
        <p:spPr>
          <a:xfrm>
            <a:off x="1187280" y="1844640"/>
            <a:ext cx="756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Czy oferta nie podlega odrzuceniu lub pozostawieniu bez rozpozna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 Box 14"/>
          <p:cNvSpPr/>
          <p:nvPr/>
        </p:nvSpPr>
        <p:spPr>
          <a:xfrm>
            <a:off x="1187280" y="2565360"/>
            <a:ext cx="7561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Czy oferta zawiera wszystkie formularze, załączniki i oświadczenia wymagane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od świadczeniodawcy i określone w materiałach informacyjnych dotyczących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danego postępowa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Box 15"/>
          <p:cNvSpPr/>
          <p:nvPr/>
        </p:nvSpPr>
        <p:spPr>
          <a:xfrm>
            <a:off x="1187280" y="3500280"/>
            <a:ext cx="756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Czy wersja elektroniczna formularza ofertowego jest zgodna z wersją papierową formular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 Box 16"/>
          <p:cNvSpPr/>
          <p:nvPr/>
        </p:nvSpPr>
        <p:spPr>
          <a:xfrm>
            <a:off x="1187280" y="4292640"/>
            <a:ext cx="7561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Czy oferta zawiera wymagane dokumenty formalno-prawne i czy są one zgodne 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ze złożoną ofert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Rectangle 1"/>
          <p:cNvSpPr/>
          <p:nvPr/>
        </p:nvSpPr>
        <p:spPr>
          <a:xfrm>
            <a:off x="-1800" y="1080"/>
            <a:ext cx="8848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e36c0a"/>
                </a:solidFill>
                <a:latin typeface="Arial"/>
                <a:ea typeface="Calibri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rostokąt 5"/>
          <p:cNvSpPr/>
          <p:nvPr/>
        </p:nvSpPr>
        <p:spPr>
          <a:xfrm>
            <a:off x="2360520" y="333360"/>
            <a:ext cx="53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Przesłanki do odrzucenia of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AutoShape 4"/>
          <p:cNvSpPr/>
          <p:nvPr/>
        </p:nvSpPr>
        <p:spPr>
          <a:xfrm>
            <a:off x="849240" y="981000"/>
            <a:ext cx="8713800" cy="518472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 u="sng">
                <a:solidFill>
                  <a:srgbClr val="000000"/>
                </a:solidFill>
                <a:uFillTx/>
                <a:latin typeface="Candara"/>
                <a:ea typeface="Arial"/>
              </a:rPr>
              <a:t>Przesłankami do odrzucenia oferty (art. 149 ustawy)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73e87"/>
                </a:solidFill>
                <a:latin typeface="Candara"/>
                <a:ea typeface="Arial"/>
              </a:rPr>
              <a:t>1</a:t>
            </a: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)   złożoną przez świadczeniodawcę po termini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2)   zawierającą nieprawdziwe informacj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3)   jeżeli świadczeniodawca nie określił przedmiotu oferty lub nie podał  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      proponowanej liczby lub ceny świadczeń opieki zdrowotnej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4)   jeżeli zawiera rażąco niską cenę w stosunku do przedmiotu zamówieni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5)   jeżeli jest nieważna na podstawie odrębnych przepisów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6)   jeżeli świadczeniodawca złożył ofertę alternatywn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7)   jeżeli oferent lub oferta nie spełniają wymaganych warunków określony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      w przepisach prawa oraz w szczegółowych warunkach umów o udzielanie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      świadczeń opieki zdrowotnej, o których mowa w art. 146 ust. 1 pkt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8)   złożoną przez świadczeniodawcę, z którym w okresie 5 lat poprzedzający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      ogłoszenie postępowania, została rozwiązana przez oddział wojewódzki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      Funduszu umowa o udzielanie świadczeń opieki zdrowotnej w zakresie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      lub rodzaju odpowiadającym przedmiotowi ogłoszenia, bez zachowania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      okresu wypowiedzenia z przyczyn leżących po stronie świadczeniodaw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rostokąt 1"/>
          <p:cNvSpPr/>
          <p:nvPr/>
        </p:nvSpPr>
        <p:spPr>
          <a:xfrm>
            <a:off x="987840" y="291960"/>
            <a:ext cx="793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6600"/>
                </a:solidFill>
                <a:latin typeface="Arial"/>
              </a:rPr>
              <a:t>Podstawy prawne przeprowadzenia procesu kontraktowania świadcze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ole tekstowe 2"/>
          <p:cNvSpPr/>
          <p:nvPr/>
        </p:nvSpPr>
        <p:spPr>
          <a:xfrm>
            <a:off x="128520" y="662040"/>
            <a:ext cx="9433080" cy="68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Rozporządzenie Ministra Zdrowia z dnia 5 sierpnia 2016 r. w sprawie szczegółowych kryteriów wyboru ofert w postępowaniu w sprawie zawarcia umów o udzielanie świadczeń opieki zdrowotnej (Dz.U.2016 poz.1372 z późn. zm.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Obowiązkowe ubezpieczenie odpowiedzialności cywilnej, stosowane odpowiednio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do formy prowadzonej działalności, wydane na podstawi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 algn="just">
              <a:lnSpc>
                <a:spcPct val="15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Rozporządzenia Ministra Finansów z dnia 22 grudnia 2011 r. w sprawie obowiązkowego ubezpieczenie odpowiedzialności cywilnej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odmiotu wykonującego działalność leczniczą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(Dz. U. z 2011 r., Nr 293, poz. 1729) </a:t>
            </a:r>
            <a:r>
              <a:rPr b="1" lang="pl-PL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lb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 algn="just">
              <a:lnSpc>
                <a:spcPct val="15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Rozporządzenia Ministra Finansów z dnia 22 grudnia 2011 r. w sprawie obowiązkowego ubezpieczenia odpowiedzialności cywilnej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świadczeniodawcy niebędącego podmiotem wykonującym działalność leczniczą udzielającego świadczeń opieki zdrowotnej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(Dz. U. z 2011 r., Nr 293, poz. 1728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Arial"/>
              <a:buChar char="•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Wingdings" charset="2"/>
              <a:buChar char=""/>
              <a:tabLst>
                <a:tab algn="l" pos="339840"/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Rectangle 1"/>
          <p:cNvSpPr/>
          <p:nvPr/>
        </p:nvSpPr>
        <p:spPr>
          <a:xfrm>
            <a:off x="-1800" y="1080"/>
            <a:ext cx="8848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e36c0a"/>
                </a:solidFill>
                <a:latin typeface="Arial"/>
                <a:ea typeface="Calibri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AutoShape 4"/>
          <p:cNvSpPr/>
          <p:nvPr/>
        </p:nvSpPr>
        <p:spPr>
          <a:xfrm>
            <a:off x="797040" y="1125360"/>
            <a:ext cx="8713800" cy="446436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 u="sng">
                <a:solidFill>
                  <a:srgbClr val="000000"/>
                </a:solidFill>
                <a:uFillTx/>
                <a:latin typeface="Candara"/>
                <a:ea typeface="Arial"/>
              </a:rPr>
              <a:t>Ofertę pozostawia się bez rozpoznania gdy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- została złożona w innym miejscu niż określone w ogłoszeniu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- format oferty jest niezgodny z formatem zapytań ofertowych i towarzyszący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 im wzorów ankiet obowiązujących w danym postępowaniu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- została sporządzona w innym języku niż język polski lub w sposób nieczyteln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rostokąt 5"/>
          <p:cNvSpPr/>
          <p:nvPr/>
        </p:nvSpPr>
        <p:spPr>
          <a:xfrm>
            <a:off x="849240" y="404640"/>
            <a:ext cx="871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Candara"/>
              </a:rPr>
              <a:t>Sprawdzenie, czy oferta zawiera wymagane informac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rostokąt 6"/>
          <p:cNvSpPr/>
          <p:nvPr/>
        </p:nvSpPr>
        <p:spPr>
          <a:xfrm>
            <a:off x="920880" y="112536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 u="sng">
                <a:solidFill>
                  <a:srgbClr val="000000"/>
                </a:solidFill>
                <a:uFillTx/>
                <a:latin typeface="Candara"/>
                <a:ea typeface="Arial"/>
              </a:rPr>
              <a:t>Komisja sprawdza, czy oferta zawiera następujące informacje i dokumen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rostokąt 7"/>
          <p:cNvSpPr/>
          <p:nvPr/>
        </p:nvSpPr>
        <p:spPr>
          <a:xfrm>
            <a:off x="763560" y="1700280"/>
            <a:ext cx="40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Dane indentyfikacyjne ofer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rostokąt 8"/>
          <p:cNvSpPr/>
          <p:nvPr/>
        </p:nvSpPr>
        <p:spPr>
          <a:xfrm>
            <a:off x="992160" y="213372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Ofertę cenow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AutoShape 4"/>
          <p:cNvSpPr/>
          <p:nvPr/>
        </p:nvSpPr>
        <p:spPr>
          <a:xfrm>
            <a:off x="992160" y="2492280"/>
            <a:ext cx="8137440" cy="72072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Czy ofertę cenową zapisaną w formie elektronicznej można odczytać i zaimportować do systemu informatyczneg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rostokąt 14"/>
          <p:cNvSpPr/>
          <p:nvPr/>
        </p:nvSpPr>
        <p:spPr>
          <a:xfrm>
            <a:off x="992160" y="328464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Ankiety zawierające dane dla określonego rodzaju lub zakresu świadcze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AutoShape 4"/>
          <p:cNvSpPr/>
          <p:nvPr/>
        </p:nvSpPr>
        <p:spPr>
          <a:xfrm>
            <a:off x="992160" y="3716280"/>
            <a:ext cx="8137440" cy="50472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Określone w szczegółowych materiałach informacyjny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rostokąt 16"/>
          <p:cNvSpPr/>
          <p:nvPr/>
        </p:nvSpPr>
        <p:spPr>
          <a:xfrm>
            <a:off x="992160" y="4508640"/>
            <a:ext cx="891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4. 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Czy oferta </a:t>
            </a: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(każda strona) 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została podpisana przez osoby uprawnione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    do reprezentowania ofer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rostokąt 18"/>
          <p:cNvSpPr/>
          <p:nvPr/>
        </p:nvSpPr>
        <p:spPr>
          <a:xfrm>
            <a:off x="992160" y="537372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5. 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Czy kolejne strony oferty zostały opatrzone numerem kolejny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ectangle 1"/>
          <p:cNvSpPr/>
          <p:nvPr/>
        </p:nvSpPr>
        <p:spPr>
          <a:xfrm>
            <a:off x="-1800" y="1080"/>
            <a:ext cx="8848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e36c0a"/>
                </a:solidFill>
                <a:latin typeface="Arial"/>
                <a:ea typeface="Calibri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rostokąt 7"/>
          <p:cNvSpPr/>
          <p:nvPr/>
        </p:nvSpPr>
        <p:spPr>
          <a:xfrm>
            <a:off x="704880" y="404640"/>
            <a:ext cx="86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6.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Oświadczenie o wpisie do właściwych rejestr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AutoShape 4"/>
          <p:cNvSpPr/>
          <p:nvPr/>
        </p:nvSpPr>
        <p:spPr>
          <a:xfrm>
            <a:off x="704880" y="887400"/>
            <a:ext cx="8713800" cy="360036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1. Oświadczenie o wpisie do właściwych rejestrów, według wzoru stanowiącego załącznik „Oświadczenie o wpisach do rejestrów” do aktualnego zarządzenia w sprawie warunków postępowania dotyczących zawierania umów o udzielanie świadczeń opieki zdrowotnej – rejestr podmiotów działalności leczniczej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2. Oświadczenie o wpisie do właściwych rejestrów, według wzoru stanowiącego załącznik „Oświadczenie o wpisach do rejestrów” do aktualnego zarządzenia w sprawie warunków postępowania dotyczących zawierania umów o udzielanie świadczeń opieki zdrowotnej – krajowy rejestr sądow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3. Oświadczenie o wpisie do właściwych rejestrów, według wzoru stanowiącego załącznik „Oświadczenie o wpisach do rejestrów” do aktualnego zarządzenia w sprawie warunków postępowania dotyczących zawierania umów o udzielanie świadczeń opieki zdrowotnej – ewidencja działalności gospodarczej lub centralna ewidencja i informacja o działalności gospodarczej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rostokąt 10"/>
          <p:cNvSpPr/>
          <p:nvPr/>
        </p:nvSpPr>
        <p:spPr>
          <a:xfrm>
            <a:off x="704880" y="4602240"/>
            <a:ext cx="84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. 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Kopia umowy spółki cywilnej lub wyciąg z tej umow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AutoShape 4"/>
          <p:cNvSpPr/>
          <p:nvPr/>
        </p:nvSpPr>
        <p:spPr>
          <a:xfrm>
            <a:off x="704880" y="5084640"/>
            <a:ext cx="8496360" cy="108108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Zawierający postanowienia o zasadach reprezentacji spółki albo uchwała wspólników spółki cywilnej w przedmiocie zasad reprezentacji spółki – w przypadku zakładów opieki zdrowotnej, dla której organem założycielskim jest spółka cywilna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Rectangle 1"/>
          <p:cNvSpPr/>
          <p:nvPr/>
        </p:nvSpPr>
        <p:spPr>
          <a:xfrm>
            <a:off x="-1800" y="1080"/>
            <a:ext cx="8848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e36c0a"/>
                </a:solidFill>
                <a:latin typeface="Arial"/>
                <a:ea typeface="Calibri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rostokąt 5"/>
          <p:cNvSpPr/>
          <p:nvPr/>
        </p:nvSpPr>
        <p:spPr>
          <a:xfrm>
            <a:off x="920880" y="260280"/>
            <a:ext cx="87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8. 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Kopia polisy lub innego dokumentu potwierdzającego zawarcie przez oferenta   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   umowy ubezpieczenia  odpowiedzialności cywilnej oferenta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AutoShape 4"/>
          <p:cNvSpPr/>
          <p:nvPr/>
        </p:nvSpPr>
        <p:spPr>
          <a:xfrm>
            <a:off x="920880" y="1052640"/>
            <a:ext cx="8496000" cy="172692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…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za szkody wyrządzone w związku z udzielaniem świadczeń w zakresie przedmiotu postępowania na okres obowiązywania umowy; oferent może złożyć także umowę przedwstępną lub inny dokument, w tym także oświadczenie, stwierdzające, że umowa ubezpieczenia odpowiedzialności cywilnej zostanie zawarta na okres obowiązywania umow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rostokąt 7"/>
          <p:cNvSpPr/>
          <p:nvPr/>
        </p:nvSpPr>
        <p:spPr>
          <a:xfrm>
            <a:off x="920880" y="292428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9. 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W przypadku gdy oferent jest reprezentowany przez pełnomocnika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    – pełnomocnictwo do składania oświadczeń woli w imieniu oferen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AutoShape 4"/>
          <p:cNvSpPr/>
          <p:nvPr/>
        </p:nvSpPr>
        <p:spPr>
          <a:xfrm>
            <a:off x="920880" y="3716280"/>
            <a:ext cx="8496000" cy="79236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Udzielone przez osobę lub osoby, których prawo do reprezentowania oferenta wynika z dokumentów przedstawionych wraz z ofert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rostokąt 10"/>
          <p:cNvSpPr/>
          <p:nvPr/>
        </p:nvSpPr>
        <p:spPr>
          <a:xfrm>
            <a:off x="920880" y="4653000"/>
            <a:ext cx="85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10. 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Inne dokumenty lub oświadczenia, jeżeli obowiązek ich dołączenia do oferty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     określony został w szczegółowych materiałach informacyjn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Rectangle 1"/>
          <p:cNvSpPr/>
          <p:nvPr/>
        </p:nvSpPr>
        <p:spPr>
          <a:xfrm>
            <a:off x="-1800" y="1080"/>
            <a:ext cx="8848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e36c0a"/>
                </a:solidFill>
                <a:latin typeface="Arial"/>
                <a:ea typeface="Calibri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AutoShape 4"/>
          <p:cNvSpPr/>
          <p:nvPr/>
        </p:nvSpPr>
        <p:spPr>
          <a:xfrm>
            <a:off x="920880" y="404640"/>
            <a:ext cx="8496000" cy="720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11. 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W przypadku, gdy Fundusz dopuszcza zlecanie podwykonawcom udzielania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    świadczeń opieki zdrowotnej objętych umową:</a:t>
            </a:r>
            <a:r>
              <a:rPr b="1" i="1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AutoShape 4"/>
          <p:cNvSpPr/>
          <p:nvPr/>
        </p:nvSpPr>
        <p:spPr>
          <a:xfrm>
            <a:off x="776160" y="1341360"/>
            <a:ext cx="8496360" cy="352764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- Wykaz podwykonawców spełniających wymagania określone w szczegółowych materiałach informacyjnych dotyczących danego  przedmiotu postępowan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- Kopia zawartej umowy (bez postanowień określających finansowanie) albo zobowiązanie podwykonawcy do zawarcia umowy z oferentem, zawierające zastrzeżenie o prawie Funduszu do przeprowadzenia kontrol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rostokąt 1"/>
          <p:cNvSpPr/>
          <p:nvPr/>
        </p:nvSpPr>
        <p:spPr>
          <a:xfrm>
            <a:off x="776160" y="549360"/>
            <a:ext cx="849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Co dzieje się w przypadku zidentyfikowania brakó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AutoShape 4"/>
          <p:cNvSpPr/>
          <p:nvPr/>
        </p:nvSpPr>
        <p:spPr>
          <a:xfrm>
            <a:off x="920880" y="1341360"/>
            <a:ext cx="8496000" cy="424836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Zidentyfikowanie braku któregokolwiek z wymaganych dokumentów bądź oświadczeń, skutkuje wezwaniem świadczeniodawcy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do uzupełnienia 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Candara"/>
                <a:ea typeface="Arial"/>
              </a:rPr>
              <a:t>braków formalnych</a:t>
            </a: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Wezwanie do uzupełnienia braków formalnych ma 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Candara"/>
                <a:ea typeface="Arial"/>
              </a:rPr>
              <a:t>formę pisemną</a:t>
            </a: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. Komisja wskazuje, jakie dokumenty należy uzupełnić i w jakim termini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Nie uzupełnienie braków formalnych, nie przedstawienia ich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w wyznaczonym terminie bądź przedstawienie informacji niepełnych, niezgodnych ze stanem faktycznym </a:t>
            </a:r>
            <a:r>
              <a:rPr b="1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skutkuje odrzuceniem oferty</a:t>
            </a: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. Komisja wzywa oferenta  - pod rygorem odrzucenia oferty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- do ich usunięcia/uzupełnienia w wyznaczonym termini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– </a:t>
            </a:r>
            <a:r>
              <a:rPr b="1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minimum 2 dni robocze od dnia wezwan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rostokąt 1"/>
          <p:cNvSpPr/>
          <p:nvPr/>
        </p:nvSpPr>
        <p:spPr>
          <a:xfrm>
            <a:off x="920880" y="47628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Wersja elektroniczna a wersja papierowa formular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AutoShape 4"/>
          <p:cNvSpPr/>
          <p:nvPr/>
        </p:nvSpPr>
        <p:spPr>
          <a:xfrm>
            <a:off x="920880" y="1628640"/>
            <a:ext cx="8496000" cy="381636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Komisja wczytuje złożoną przez świadczeniodawcę na nośniku elektronicznym ofertę do systemu informatycznego i sprawdza, czy forma elektroniczna oferty jest zgodna ze złożoną wersją papierową oferty.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W przypadku, gdy nośnika elektronicznego nie można odczytać bądź wersja elektroniczna i papierowa oferty nie są zgodne, komisja wzywa oferenta do uzupełnienia braków tj. dostarczenia nowego nośnika zawierającego ofertę w formie elektronicznej zgodną ze złożoną wersją papierow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Documents"/>
          <p:cNvSpPr/>
          <p:nvPr/>
        </p:nvSpPr>
        <p:spPr>
          <a:xfrm>
            <a:off x="6465960" y="4653000"/>
            <a:ext cx="1352520" cy="1809720"/>
          </a:xfrm>
          <a:custGeom>
            <a:avLst/>
            <a:gdLst>
              <a:gd name="textAreaLeft" fmla="*/ 102960 w 1352520"/>
              <a:gd name="textAreaRight" fmla="*/ 1034640 w 1352520"/>
              <a:gd name="textAreaTop" fmla="*/ 349200 h 1809720"/>
              <a:gd name="textAreaBottom" fmla="*/ 1450800 h 180972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rostokąt 1"/>
          <p:cNvSpPr/>
          <p:nvPr/>
        </p:nvSpPr>
        <p:spPr>
          <a:xfrm>
            <a:off x="1784520" y="33336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2862aa"/>
                </a:solidFill>
                <a:latin typeface="Candara"/>
              </a:rPr>
              <a:t>Dokumenty formalno-praw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rostokąt 3"/>
          <p:cNvSpPr/>
          <p:nvPr/>
        </p:nvSpPr>
        <p:spPr>
          <a:xfrm>
            <a:off x="1352520" y="105264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Candara"/>
                <a:ea typeface="Arial"/>
              </a:rPr>
              <a:t>W części dotyczącej oceny zgodności złożonej oferty z dokumentami formalno-prawnymi komisja sprawdza w szczególności</a:t>
            </a: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AutoShape 4"/>
          <p:cNvSpPr/>
          <p:nvPr/>
        </p:nvSpPr>
        <p:spPr>
          <a:xfrm>
            <a:off x="992160" y="1773360"/>
            <a:ext cx="3960720" cy="208728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zgodność oświadczenia świadczeniodawcy dotyczącego wpisów do rejestró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w publicznym rejestrze teleinformatyczn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AutoShape 4"/>
          <p:cNvSpPr/>
          <p:nvPr/>
        </p:nvSpPr>
        <p:spPr>
          <a:xfrm>
            <a:off x="5097600" y="1773360"/>
            <a:ext cx="3958920" cy="216036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czy specjalności komórek organizacyjnych i dziedziny medyczne są odpowiednie dla realizacji zakresu, na który została złożona ofe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rostokąt 6"/>
          <p:cNvSpPr/>
          <p:nvPr/>
        </p:nvSpPr>
        <p:spPr>
          <a:xfrm>
            <a:off x="704880" y="4292640"/>
            <a:ext cx="8928000" cy="18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W przypadku stwierdzenia niezgodności rejestru wskazanego w oświadczeniu z rejestrem publicznym lub gdy rejestr nie zawiera informacji o specjalności komórek organizacyjnych i dziedziny medycznej odpowiedniej dla realizacji zakresu, komisja przygotowuje stosowną adnotację oraz wzywa oferenta do uzupełnienia braku tj. przedłożenia aktualnego wypisu z rejestru podmiotów wykonujących działalność leczniczą w wersji papierowej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  <a:ea typeface="Arial"/>
              </a:rPr>
              <a:t>Nie uzupełnienie braku, nie przedstawienie w wyznaczonym terminie, bądź przedstawienie informacji nieprawdziwych skutkuje odrzuceniem oferty</a:t>
            </a: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rostokąt 1"/>
          <p:cNvSpPr/>
          <p:nvPr/>
        </p:nvSpPr>
        <p:spPr>
          <a:xfrm>
            <a:off x="2958840" y="333360"/>
            <a:ext cx="45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Część niejawna postępow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AutoShape 4"/>
          <p:cNvSpPr/>
          <p:nvPr/>
        </p:nvSpPr>
        <p:spPr>
          <a:xfrm>
            <a:off x="920880" y="1125360"/>
            <a:ext cx="8496000" cy="266400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Oferty, które w części jawnej postępowania nie zostały odrzucone,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bądź nie pozostały bez rozpatrzenia, uczestniczą w części niejawnej postępowani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Ocena </a:t>
            </a: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ofert dokonywana w </a:t>
            </a:r>
            <a:r>
              <a:rPr b="1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części niejawnej </a:t>
            </a: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dotyczy </a:t>
            </a:r>
            <a:r>
              <a:rPr b="1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potencjału świadczeniodawcy </a:t>
            </a: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(zasoby kadrowo -, sprzętowo-, lokalowe) 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Candara"/>
                <a:ea typeface="Arial"/>
              </a:rPr>
              <a:t>oraz </a:t>
            </a:r>
            <a:r>
              <a:rPr b="1" lang="pl-PL" sz="2000" spc="-1" strike="noStrike">
                <a:solidFill>
                  <a:srgbClr val="000000"/>
                </a:solidFill>
                <a:latin typeface="Candara"/>
                <a:ea typeface="Arial"/>
              </a:rPr>
              <a:t>spełnienia wymagań mających wpływ na jakość udzielanych świadcze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AutoShape 4"/>
          <p:cNvSpPr/>
          <p:nvPr/>
        </p:nvSpPr>
        <p:spPr>
          <a:xfrm>
            <a:off x="920880" y="4365720"/>
            <a:ext cx="8496000" cy="1800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2862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rostokąt 4"/>
          <p:cNvSpPr/>
          <p:nvPr/>
        </p:nvSpPr>
        <p:spPr>
          <a:xfrm>
            <a:off x="1208160" y="4724280"/>
            <a:ext cx="7921440" cy="20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Szczegółowe kryteria oceny ofert określa Rozporządzenie Ministra Zdrowia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z dnia 5 sierpnia 2016 r. w sprawie szczegółowych kryteriów wyboru ofert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w postępowaniu w sprawie zawarcia umów o udzielanie świadczeń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opieki zdrowotnej (Dz.U.2016 poz.1372 z późn. zm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Rectangle 2"/>
          <p:cNvSpPr/>
          <p:nvPr/>
        </p:nvSpPr>
        <p:spPr>
          <a:xfrm>
            <a:off x="1208160" y="620640"/>
            <a:ext cx="770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l-PL" sz="3200" spc="-1" strike="noStrike">
                <a:solidFill>
                  <a:srgbClr val="ff6600"/>
                </a:solidFill>
                <a:latin typeface="Candara"/>
                <a:ea typeface="Arial"/>
              </a:rPr>
              <a:t>Uwagi praktyczne 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AutoShape 4"/>
          <p:cNvSpPr/>
          <p:nvPr/>
        </p:nvSpPr>
        <p:spPr>
          <a:xfrm>
            <a:off x="728640" y="1628640"/>
            <a:ext cx="8713800" cy="244800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W przypadku powzięcia przez komisję konkursową uzasadnionego podejrzenia              o celowym oraz  mającym wpływ na wybór oferty podania nieprawdziwych dany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w ofercie tzw. „kłamstwo ofertowe” istnieje obowiązek złożenia stosownego zawiadomienia do Prokuratury. Zgodnie bowiem, z art. 193 pkt 7 ustawy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o świadczeniach opieki zdrowotnej finansowanych ze środków publicznych: </a:t>
            </a:r>
            <a:br>
              <a:rPr sz="1800"/>
            </a:br>
            <a:r>
              <a:rPr b="0" i="1" lang="pl-PL" sz="1800" spc="-1" strike="noStrike">
                <a:solidFill>
                  <a:srgbClr val="000000"/>
                </a:solidFill>
                <a:latin typeface="Candara"/>
              </a:rPr>
              <a:t>Kto podaje w ofercie złożonej w postępowaniu w sprawie zawarcia umowy o udzielanie świadczeń opieki zdrowotnej finansowanych przez Fundusz nieprawdziwe informacje </a:t>
            </a:r>
            <a:br>
              <a:rPr sz="1800"/>
            </a:br>
            <a:r>
              <a:rPr b="0" i="1" lang="pl-PL" sz="1800" spc="-1" strike="noStrike">
                <a:solidFill>
                  <a:srgbClr val="000000"/>
                </a:solidFill>
                <a:latin typeface="Candara"/>
              </a:rPr>
              <a:t>i dane, podlega karze grzyw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66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 txBox="1"/>
          <p:nvPr/>
        </p:nvSpPr>
        <p:spPr>
          <a:xfrm>
            <a:off x="344520" y="2060640"/>
            <a:ext cx="90662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Obwieszczenie Ministra Zdrowia z dnia 22 września 2015 r. w sprawie ogłoszenia jednolitego tekstu rozporządzenia Ministra Zdrowia w sprawie świadczeń gwarantowanych z zakresu świadczeń pielęgnacyjnych i opiekuńczych w ramach opieki długoterminowej (Dz.U. z 2015 r. poz. 1658),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 algn="just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ZARZĄDZENIE NR 45/2018/DSOZ PREZESA NARODOWEGO FUNDUSZU ZDROWIA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z dnia 30 maja 2018 r. w sprawie określenia warunków zawierania i realizacji umów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w rodzaju świadczenia pielęgnacyjne i opiekuńcze w ramach opieki długoterminowej,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 algn="just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ZARZĄDZENIE Nr 73/2018/DSOZ PREZESA NARODOWEGO FUNDUSZU ZDROWIA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z dnia 30 lipca 2018 r. zmieniające zarządzenie w sprawie określenia warunków zawierania i realizacji umów w rodzaju świadczenia pielęgnacyjne i opiekuńcze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w ramach opieki długoterminowej,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 algn="just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95000" y="337680"/>
            <a:ext cx="8915400" cy="150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ndara"/>
              </a:rPr>
              <a:t>Akty prawne dotyczące rodzaju: </a:t>
            </a:r>
            <a:br>
              <a:rPr sz="2400"/>
            </a:br>
            <a:r>
              <a:rPr b="1" lang="pl-PL" sz="2400" spc="-1" strike="noStrike" u="sng">
                <a:solidFill>
                  <a:srgbClr val="ff0000"/>
                </a:solidFill>
                <a:uFillTx/>
                <a:latin typeface="Candara"/>
              </a:rPr>
              <a:t>ŚWIADCZENIA PIELĘGNACYJNE I OPIEKUŃCZE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Rectangle 2"/>
          <p:cNvSpPr/>
          <p:nvPr/>
        </p:nvSpPr>
        <p:spPr>
          <a:xfrm>
            <a:off x="1208160" y="620640"/>
            <a:ext cx="770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l-PL" sz="3200" spc="-1" strike="noStrike">
                <a:solidFill>
                  <a:srgbClr val="ff6600"/>
                </a:solidFill>
                <a:latin typeface="Candara"/>
                <a:ea typeface="Arial"/>
              </a:rPr>
              <a:t>Uwagi praktyczne 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AutoShape 4"/>
          <p:cNvSpPr/>
          <p:nvPr/>
        </p:nvSpPr>
        <p:spPr>
          <a:xfrm>
            <a:off x="728640" y="1628640"/>
            <a:ext cx="8713800" cy="396108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W przypadku przedstawienia przez świadczeniodawcę nieprawdziwych lub niezgodnych ze stanem faktycznym danych lub informacji,  mających istotny wpływ na zawarcie umowy w toku postępowania w sprawie zawarcia umowy Dyrektor oddziału wojewódzkiego Funduszu może rozwiązać umowę w części albo w całości bez zachowania okresu wypowiedzenia (§ 36 ust 1. pkt 7 Ogólnych warunków umów o udzielanie świadczeń opieki zdrowotnej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Z drugiej strony, rozwiązanie umowy o udzielanie świadczeń opieki zdrowotnej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w określonym rodzaju lub zakresie w trybie natychmiastowym z przyczyn leżących po stronie świadczeniodawcy stanowi podstawę obligatoryjnego odrzucenia oferty (art. 149 ust. 1 pkt.8 </a:t>
            </a:r>
            <a:r>
              <a:rPr b="0" i="1" lang="pl-PL" sz="1800" spc="-1" strike="noStrike">
                <a:solidFill>
                  <a:srgbClr val="000000"/>
                </a:solidFill>
                <a:latin typeface="Candara"/>
              </a:rPr>
              <a:t>ustawy o świadczeniach</a:t>
            </a: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66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1"/>
          <p:cNvSpPr/>
          <p:nvPr/>
        </p:nvSpPr>
        <p:spPr>
          <a:xfrm>
            <a:off x="0" y="28080"/>
            <a:ext cx="9208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e36c0a"/>
                </a:solidFill>
                <a:latin typeface="Arial"/>
                <a:ea typeface="Calibri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rostokąt 6"/>
          <p:cNvSpPr/>
          <p:nvPr/>
        </p:nvSpPr>
        <p:spPr>
          <a:xfrm>
            <a:off x="1496880" y="62064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Zanim złożysz ofert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rostokąt 7"/>
          <p:cNvSpPr/>
          <p:nvPr/>
        </p:nvSpPr>
        <p:spPr>
          <a:xfrm>
            <a:off x="329040" y="1268280"/>
            <a:ext cx="50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Candara"/>
                <a:ea typeface="Arial"/>
              </a:rPr>
              <a:t>Przed złożeniem oferty należy sprawdzić, czy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rostokąt 10"/>
          <p:cNvSpPr/>
          <p:nvPr/>
        </p:nvSpPr>
        <p:spPr>
          <a:xfrm>
            <a:off x="1568520" y="1700280"/>
            <a:ext cx="74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została przygotowana przy użyciu właściwej wersji oprogramowania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o którym mowa w regulaminie technicznym przygotowania ofert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rostokąt 12"/>
          <p:cNvSpPr/>
          <p:nvPr/>
        </p:nvSpPr>
        <p:spPr>
          <a:xfrm>
            <a:off x="1676520" y="255888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pobrany został właściwy plik z zapytaniem ofertowy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rostokąt 16"/>
          <p:cNvSpPr/>
          <p:nvPr/>
        </p:nvSpPr>
        <p:spPr>
          <a:xfrm>
            <a:off x="689040" y="3141720"/>
            <a:ext cx="9217080" cy="28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wszystkie formularze ofertowe zostały wypełnion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wydruk papierowy formularzy ofertowych i wersja elektroniczna  zapisana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                   na nośniku elektronicznym są tej samej wersj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wszystkie strony formularza oferty są ponumerowane i podpisane przez osobę </a:t>
            </a: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uprawnioną do reprezentowania świadczeniodawcy zgodnie z załączonym do </a:t>
            </a: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oferty wzorem podpisów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Strzałka w prawo 18"/>
          <p:cNvSpPr/>
          <p:nvPr/>
        </p:nvSpPr>
        <p:spPr>
          <a:xfrm>
            <a:off x="992160" y="1916280"/>
            <a:ext cx="432000" cy="217440"/>
          </a:xfrm>
          <a:prstGeom prst="rightArrow">
            <a:avLst>
              <a:gd name="adj1" fmla="val 50000"/>
              <a:gd name="adj2" fmla="val 50037"/>
            </a:avLst>
          </a:prstGeom>
          <a:solidFill>
            <a:srgbClr val="2b974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Strzałka w prawo 19"/>
          <p:cNvSpPr/>
          <p:nvPr/>
        </p:nvSpPr>
        <p:spPr>
          <a:xfrm>
            <a:off x="992160" y="2637000"/>
            <a:ext cx="432000" cy="215640"/>
          </a:xfrm>
          <a:prstGeom prst="rightArrow">
            <a:avLst>
              <a:gd name="adj1" fmla="val 50000"/>
              <a:gd name="adj2" fmla="val 50083"/>
            </a:avLst>
          </a:prstGeom>
          <a:solidFill>
            <a:srgbClr val="2b974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Strzałka w prawo 20"/>
          <p:cNvSpPr/>
          <p:nvPr/>
        </p:nvSpPr>
        <p:spPr>
          <a:xfrm>
            <a:off x="992160" y="321300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2b974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Strzałka w prawo 21"/>
          <p:cNvSpPr/>
          <p:nvPr/>
        </p:nvSpPr>
        <p:spPr>
          <a:xfrm>
            <a:off x="992160" y="4005360"/>
            <a:ext cx="432000" cy="215640"/>
          </a:xfrm>
          <a:prstGeom prst="rightArrow">
            <a:avLst>
              <a:gd name="adj1" fmla="val 50000"/>
              <a:gd name="adj2" fmla="val 50083"/>
            </a:avLst>
          </a:prstGeom>
          <a:solidFill>
            <a:srgbClr val="2b974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Strzałka w prawo 22"/>
          <p:cNvSpPr/>
          <p:nvPr/>
        </p:nvSpPr>
        <p:spPr>
          <a:xfrm>
            <a:off x="992160" y="508464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2b974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Rectangle 1"/>
          <p:cNvSpPr/>
          <p:nvPr/>
        </p:nvSpPr>
        <p:spPr>
          <a:xfrm>
            <a:off x="-1800" y="1080"/>
            <a:ext cx="8848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e36c0a"/>
                </a:solidFill>
                <a:latin typeface="Arial"/>
                <a:ea typeface="Calibri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rostokąt 6"/>
          <p:cNvSpPr/>
          <p:nvPr/>
        </p:nvSpPr>
        <p:spPr>
          <a:xfrm>
            <a:off x="1712880" y="668160"/>
            <a:ext cx="7128000" cy="51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nośnik, na którym została zapisana wersja elektroniczna oferty jest prawidłowo oznaczon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wszystkie dodatkowe dokumenty i oświadczenia zostały załączone, ponumerowane i podpisane przez osobę uprawnioną do reprezentowania świadczeniodawcy zgodnie z załączonym do oferty wzorem podpisów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załączone dokumenty stanowiące kserokopie są potwierdzone                  „za zgodność z oryginałem”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  <a:ea typeface="Arial"/>
              </a:rPr>
              <a:t>wydruk formularza oferty (z ponumerowanymi stronami i podpisami) wraz z nośnikiem elektronicznym i wersja elektroniczna oferty zostały umieszczone w oddzielnej zaklejonej kopercie oznaczonej słowem „oferta”, nazwą i adresem świadczeniodawcy oraz kodem                           i przedmiotem postępowania (zgodnie z ogłoszeniem o postępowaniu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Strzałka w prawo 7"/>
          <p:cNvSpPr/>
          <p:nvPr/>
        </p:nvSpPr>
        <p:spPr>
          <a:xfrm>
            <a:off x="992160" y="83664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2b974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Strzałka w prawo 8"/>
          <p:cNvSpPr/>
          <p:nvPr/>
        </p:nvSpPr>
        <p:spPr>
          <a:xfrm>
            <a:off x="992160" y="215748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2b974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Strzałka w prawo 10"/>
          <p:cNvSpPr/>
          <p:nvPr/>
        </p:nvSpPr>
        <p:spPr>
          <a:xfrm>
            <a:off x="992160" y="3284640"/>
            <a:ext cx="432000" cy="215640"/>
          </a:xfrm>
          <a:prstGeom prst="rightArrow">
            <a:avLst>
              <a:gd name="adj1" fmla="val 50000"/>
              <a:gd name="adj2" fmla="val 50083"/>
            </a:avLst>
          </a:prstGeom>
          <a:solidFill>
            <a:srgbClr val="2b974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Strzałka w prawo 11"/>
          <p:cNvSpPr/>
          <p:nvPr/>
        </p:nvSpPr>
        <p:spPr>
          <a:xfrm>
            <a:off x="992160" y="479736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2b974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rostokąt 1"/>
          <p:cNvSpPr/>
          <p:nvPr/>
        </p:nvSpPr>
        <p:spPr>
          <a:xfrm>
            <a:off x="1136520" y="2967120"/>
            <a:ext cx="77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Uwag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Informacje zawarte w opracowaniu nie stanowią źródła praw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Rectangle 2"/>
          <p:cNvSpPr/>
          <p:nvPr/>
        </p:nvSpPr>
        <p:spPr>
          <a:xfrm>
            <a:off x="631800" y="2060640"/>
            <a:ext cx="878508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2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6600"/>
                </a:solidFill>
                <a:latin typeface="Candara"/>
                <a:ea typeface="Arial"/>
              </a:rPr>
              <a:t>Dziękuję za uwagę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Rectangle 2"/>
          <p:cNvSpPr/>
          <p:nvPr/>
        </p:nvSpPr>
        <p:spPr>
          <a:xfrm>
            <a:off x="5240160" y="4365720"/>
            <a:ext cx="4176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Rectangle 2"/>
          <p:cNvSpPr/>
          <p:nvPr/>
        </p:nvSpPr>
        <p:spPr>
          <a:xfrm>
            <a:off x="5168880" y="5084640"/>
            <a:ext cx="3600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 txBox="1"/>
          <p:nvPr/>
        </p:nvSpPr>
        <p:spPr>
          <a:xfrm>
            <a:off x="495000" y="2674440"/>
            <a:ext cx="89154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 algn="just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Obwieszczenie Ministra Zdrowia z dnia 28 marca 2018 r. w sprawie ogłoszenia jednolitego tekstu rozporządzenia Ministra Zdrowia w sprawie świadczeń gwarantowanych z zakresu opieki paliatywnej i hospicyjnej (Dz.U. z 2018 r. poz. 742),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 algn="just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 algn="just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Rozporządzenie Ministra Zdrowia z dnia 12 czerwca 2018 r. zmieniające rozporządzenie w sprawie świadczeń gwarantowanych z zakresu opieki paliatywnej i hospicyjnej,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 algn="just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 algn="just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ZARZĄDZENIE NR 74/2018/DSOZ PREZESA NARODOWEGO FUNDUSZU ZDROWIA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z dnia 31 lipca 2018 r. w sprawie określenia warunków zawierania i realizacji umów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w rodzaju opieka paliatywna i hospicyjna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ndara"/>
              </a:rPr>
              <a:t>Akty prawne dotyczące rodzaju: </a:t>
            </a:r>
            <a:br>
              <a:rPr sz="2400"/>
            </a:br>
            <a:r>
              <a:rPr b="1" lang="pl-PL" sz="2400" spc="-1" strike="noStrike" u="sng">
                <a:solidFill>
                  <a:srgbClr val="ff0000"/>
                </a:solidFill>
                <a:uFillTx/>
                <a:latin typeface="Candara"/>
              </a:rPr>
              <a:t>OPIEKA PALIATYWNA I HOSPICYJNA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1"/>
          <p:cNvSpPr/>
          <p:nvPr/>
        </p:nvSpPr>
        <p:spPr>
          <a:xfrm>
            <a:off x="-1800" y="1080"/>
            <a:ext cx="8848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e36c0a"/>
                </a:solidFill>
                <a:latin typeface="Arial"/>
                <a:ea typeface="Calibri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rostokąt 4"/>
          <p:cNvSpPr/>
          <p:nvPr/>
        </p:nvSpPr>
        <p:spPr>
          <a:xfrm>
            <a:off x="2476440" y="3105000"/>
            <a:ext cx="4953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rostokąt 8"/>
          <p:cNvSpPr/>
          <p:nvPr/>
        </p:nvSpPr>
        <p:spPr>
          <a:xfrm>
            <a:off x="992160" y="69228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Gdzie i kiedy można zapoznać się ze szczegółowymi </a:t>
            </a: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warunkami postępowania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rostokąt 11"/>
          <p:cNvSpPr/>
          <p:nvPr/>
        </p:nvSpPr>
        <p:spPr>
          <a:xfrm>
            <a:off x="992160" y="2565360"/>
            <a:ext cx="8569440" cy="22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Ogłoszenie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zawiera szczegółowe informacje, od kiedy i gdzie można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pobrać i zapoznać się z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ateriałami niezbędnymi do przygotowania ofert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którymi są w szczególnoś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- aplikacja do sporządzenia oferty w wersji elektronicznej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- plik z zapytaniem ofertowym do zaimplementowania do aplikacji ofertowej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- wzory formularzy ofertowych i oświadcze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1"/>
          <p:cNvSpPr/>
          <p:nvPr/>
        </p:nvSpPr>
        <p:spPr>
          <a:xfrm>
            <a:off x="-1800" y="1080"/>
            <a:ext cx="8848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e36c0a"/>
                </a:solidFill>
                <a:latin typeface="Arial"/>
                <a:ea typeface="Calibri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rostokąt 8"/>
          <p:cNvSpPr/>
          <p:nvPr/>
        </p:nvSpPr>
        <p:spPr>
          <a:xfrm>
            <a:off x="2664000" y="155520"/>
            <a:ext cx="47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Miejsce i termin składania ofe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AutoShape 4"/>
          <p:cNvSpPr/>
          <p:nvPr/>
        </p:nvSpPr>
        <p:spPr>
          <a:xfrm>
            <a:off x="857160" y="617400"/>
            <a:ext cx="8640720" cy="216396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Miejsc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 składania ofert zostaje precyzyjnie określone w ogłoszeniu postępowania.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Należy pamiętać, że wskazane w ogłoszeniu o konkursie ofert miejsce  do złożenia oferty jest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yłącznie uprawnione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do jej przyjęcia. Pozostawienie oferty w innym miejscu spowoduje pozostawienie oferty bez rozpoznani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Podobnie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termin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 złożenia oferty zostaje precyzyjnie określony w ogłoszeni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Następuje to najczęściej poprzez podanie konkretnej daty i godziny, do której należy złożyć oferty. Oferta złożona po wskazanym terminie podlega odrzuceni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Elipsa 11"/>
          <p:cNvSpPr/>
          <p:nvPr/>
        </p:nvSpPr>
        <p:spPr>
          <a:xfrm>
            <a:off x="2593800" y="2852640"/>
            <a:ext cx="4680000" cy="576360"/>
          </a:xfrm>
          <a:prstGeom prst="ellipse">
            <a:avLst/>
          </a:prstGeom>
          <a:noFill/>
          <a:ln w="9360">
            <a:solidFill>
              <a:srgbClr val="2862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Oferta może zostać złoż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rostokąt 16"/>
          <p:cNvSpPr/>
          <p:nvPr/>
        </p:nvSpPr>
        <p:spPr>
          <a:xfrm>
            <a:off x="6004080" y="381960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Za pośrednictwem pocz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rostokąt 18"/>
          <p:cNvSpPr/>
          <p:nvPr/>
        </p:nvSpPr>
        <p:spPr>
          <a:xfrm>
            <a:off x="1658880" y="3819600"/>
            <a:ext cx="139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Osobiś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7" name="Łącznik prosty ze strzałką 20"/>
          <p:cNvCxnSpPr/>
          <p:nvPr/>
        </p:nvCxnSpPr>
        <p:spPr>
          <a:xfrm>
            <a:off x="6271920" y="3514320"/>
            <a:ext cx="181800" cy="20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58" name="Łącznik prosty ze strzałką 23"/>
          <p:cNvCxnSpPr/>
          <p:nvPr/>
        </p:nvCxnSpPr>
        <p:spPr>
          <a:xfrm flipH="1">
            <a:off x="3036240" y="3432240"/>
            <a:ext cx="30060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59" name="AutoShape 4"/>
          <p:cNvSpPr/>
          <p:nvPr/>
        </p:nvSpPr>
        <p:spPr>
          <a:xfrm>
            <a:off x="441360" y="4467240"/>
            <a:ext cx="4895640" cy="107640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W miejscu i w terminie wskazanym w ogłoszeniu o postępowaniu. Oferent wówczas otrzymuje potwierdzenie jej złożenia zawierające datę złożenia oraz numer z rejestru ofer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AutoShape 4"/>
          <p:cNvSpPr/>
          <p:nvPr/>
        </p:nvSpPr>
        <p:spPr>
          <a:xfrm>
            <a:off x="5450040" y="4500720"/>
            <a:ext cx="4160520" cy="1584000"/>
          </a:xfrm>
          <a:prstGeom prst="roundRect">
            <a:avLst>
              <a:gd name="adj" fmla="val 16667"/>
            </a:avLst>
          </a:prstGeom>
          <a:solidFill>
            <a:srgbClr val="33996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Ofertę przesłaną drogą pocztową uważa się za złożoną w terminie, jeżeli data stempla pocztowego (data nadania) </a:t>
            </a:r>
            <a:r>
              <a:rPr b="0" lang="pl-PL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ie jest późniejsza niż termin składania ofert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określony w ogłoszeniu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oraz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 jeżeli oferta wpłynie do oddziału wojewódzkiego NFZ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nie później niż na jeden dzień przed otwarciem ofert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"/>
          <p:cNvSpPr txBox="1"/>
          <p:nvPr/>
        </p:nvSpPr>
        <p:spPr>
          <a:xfrm>
            <a:off x="944280" y="1916280"/>
            <a:ext cx="846612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Oferty składa się w zamkniętych kopertach lub paczkach w miejscu i terminie określonych w ogłoszeniu o postępowaniu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Oznaczenie przesyłki wyraźnie wskazuje na zamieszczoną wewnątrz ofertę oraz wskazuje kod postępowania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Oferent obowiązany jest złożyć ofertę w formie pisemnej oraz elektronicznej.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ndara"/>
              </a:rPr>
              <a:t>OFERTA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Rectangle 1"/>
          <p:cNvSpPr/>
          <p:nvPr/>
        </p:nvSpPr>
        <p:spPr>
          <a:xfrm>
            <a:off x="-1800" y="1080"/>
            <a:ext cx="8848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e36c0a"/>
                </a:solidFill>
                <a:latin typeface="Arial"/>
                <a:ea typeface="Calibri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AutoShape 4"/>
          <p:cNvSpPr/>
          <p:nvPr/>
        </p:nvSpPr>
        <p:spPr>
          <a:xfrm>
            <a:off x="776160" y="552600"/>
            <a:ext cx="8856720" cy="2300040"/>
          </a:xfrm>
          <a:prstGeom prst="roundRect">
            <a:avLst>
              <a:gd name="adj" fmla="val 16667"/>
            </a:avLst>
          </a:prstGeom>
          <a:solidFill>
            <a:srgbClr val="2862aa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Candara"/>
              </a:rPr>
              <a:t>Oferta w formie pisemnej</a:t>
            </a: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 obejmu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ndara"/>
              </a:rPr>
              <a:t>1. </a:t>
            </a:r>
            <a:r>
              <a:rPr b="1" lang="pl-PL" sz="1800" spc="-1" strike="noStrike" u="sng">
                <a:solidFill>
                  <a:srgbClr val="000000"/>
                </a:solidFill>
                <a:uFillTx/>
                <a:latin typeface="Candara"/>
              </a:rPr>
              <a:t>wydruk formularza ofertowego zgodny z jego postacią elektroniczną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</a:rPr>
              <a:t>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- opatrzony na każdej stronie tego wydruku kolejnym numerem oraz podpisami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lub parafami osób uprawnionych do reprezentowania oferenta, zgodnymi ze wzorami podpisów, zamieszczonymi w tabeli określonej w załączniku nr 6 do zarządzenia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ndara"/>
              </a:rPr>
              <a:t>2. </a:t>
            </a:r>
            <a:r>
              <a:rPr b="1" lang="pl-PL" sz="1800" spc="-1" strike="noStrike" u="sng">
                <a:solidFill>
                  <a:srgbClr val="000000"/>
                </a:solidFill>
                <a:uFillTx/>
                <a:latin typeface="Candara"/>
              </a:rPr>
              <a:t>dokumenty i oświadczenia wymienione w § 14  Zarządzenia Prezesa NFZ nr 18/2017/DSOZ z dnia 14 marca 2017 r</a:t>
            </a:r>
            <a:r>
              <a:rPr b="1" lang="pl-PL" sz="1800" spc="-1" strike="noStrike">
                <a:solidFill>
                  <a:srgbClr val="000000"/>
                </a:solidFill>
                <a:latin typeface="Candar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rostokąt 1"/>
          <p:cNvSpPr/>
          <p:nvPr/>
        </p:nvSpPr>
        <p:spPr>
          <a:xfrm>
            <a:off x="4011480" y="3789360"/>
            <a:ext cx="547848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Formularz ofertowy przygotowuje się w formie elektronicznej przy użyciu aplikacji ofertowej             w sposób określony w regulaminie technicznym przygotowania ofer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W formie wydruku stanowi on wersję pisemną formularza ofertowe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6" name="Picture 14" descr="C:\Program Files\Microsoft Office\MEDIA\CAGCAT10\j0195384.wmf"/>
          <p:cNvPicPr/>
          <p:nvPr/>
        </p:nvPicPr>
        <p:blipFill>
          <a:blip r:embed="rId1"/>
          <a:stretch/>
        </p:blipFill>
        <p:spPr>
          <a:xfrm>
            <a:off x="1281240" y="3141720"/>
            <a:ext cx="1795320" cy="18320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1T20:16:07Z</dcterms:created>
  <dc:creator>katarzyna.wiktorzak</dc:creator>
  <dc:description/>
  <dc:language>en-US</dc:language>
  <cp:lastModifiedBy>Wojciech Mika</cp:lastModifiedBy>
  <cp:lastPrinted>2019-03-12T08:41:44Z</cp:lastPrinted>
  <dcterms:modified xsi:type="dcterms:W3CDTF">2019-03-15T13:16:38Z</dcterms:modified>
  <cp:revision>1145</cp:revision>
  <dc:subject/>
  <dc:title>Slajd 1</dc:title>
</cp:coreProperties>
</file>