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28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66706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0" y="0"/>
            <a:ext cx="66708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dt" idx="46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Img"/>
          </p:nvPr>
        </p:nvSpPr>
        <p:spPr>
          <a:xfrm>
            <a:off x="663120" y="740880"/>
            <a:ext cx="53406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ftr" idx="47"/>
          </p:nvPr>
        </p:nvSpPr>
        <p:spPr>
          <a:xfrm>
            <a:off x="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mponent Regional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 type="sldNum" idx="48"/>
          </p:nvPr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21FD2ADA-DCEF-4130-8A8A-E0D0D4A3FC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667077C-C58A-4E4B-9E82-B7F8BCA9424A}" type="slidenum"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663480" y="741240"/>
            <a:ext cx="5340600" cy="369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66360" y="4684680"/>
            <a:ext cx="5335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778200" y="937584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CF9D9A3-4CA4-4B38-AF13-C7AD28352D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A20C-67D1-4E14-A5BD-0B654421D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0479A-E122-4863-AFED-EEC1780E85B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EF2E5-9848-4C3A-851E-2165E186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3C51-0F52-4E29-B981-0695955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02F73-0E9C-41B7-8236-8B0B21FB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FE5B-1094-42ED-9EBF-8A991F6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064F-1496-4CC7-A158-5FC03DF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56729-6AE1-472F-AA9C-40B24AFA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07E56-C6A9-4ECE-9B77-9B082505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20E50-E1C7-4F08-A5AD-CE41E9DD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BFE61-333D-47F0-91C1-06636FA6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CBCBF-F4C1-4A92-ADD1-074AA02C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DC36-3322-4D0A-97FC-08D94A3C65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1C9B4-4D5C-4C93-A8F3-10CCF601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C3DE-CADC-44A1-A120-C2D526D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37A26-9BB4-4E6C-9F0A-48D6BF9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971A7-7868-4FEA-9B15-FB312331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02AA-0EE3-4709-B06D-0442BA7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13A3-B3CC-48E2-B668-DB6FAA9E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2168-62EE-4502-9E12-8D26E2E0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9048D-3585-49AC-8FF2-F584273F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4D44-221E-4509-8E48-A0B2315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2AEFE-D48D-4BA2-A618-1F647BDEB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8288-D4BA-4E16-8584-2DD044DA7F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C7B94-0650-4C3D-B4B7-1DC8C109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04A89-9870-4352-A24A-1C625E4F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81D4-4F03-4A5F-A291-84BAE4D6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210A-ACFF-453C-A559-2E2074D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734E9-1346-4489-9C5F-C46A8A9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12089-A13B-44A6-BDD5-EAC43852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0F79B-1FC3-4B83-B5A7-9FD29D16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182FD-AB45-4A85-8AFA-346F390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471C-0044-4544-84A1-26546E4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D1368-4231-4E93-8D07-EDE7D90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8E37C-3C73-41FD-BBEE-99C6113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476E0-95A0-4F10-BA86-9DAFCE5F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8084E-27F8-454B-AA6D-A3462399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0F14D-00B6-45B7-8115-B9C5D08A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08177-2D8C-4756-84EF-0BC9838F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D6FF2-26AE-4EF7-9BA9-CB3489A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7568-CC46-44A2-8B67-CC993925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53DC4-ADF4-497F-AA9C-CDEC5F92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AD0EB-EB81-448C-BF52-180B65C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4D185-CF13-47A8-B74F-029B706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810C4-95BE-4BF2-A9B7-31B23CF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104B5-2DCD-40B4-B281-4216BA0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A0D98-CCB1-47FF-B4B2-DE827734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FE3BD-61B5-44E8-9816-5A99BA13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00014-9FA7-4A3E-8ADD-A4597C16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C7292-6638-4BFD-A377-A5E3E57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27978-4A79-479A-8563-E556E56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C3F0C-C968-4B86-9F40-791183E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DF1B1-DA6E-4855-A3BF-DFA8B99F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CBB4D-5033-4ADC-ACE3-361651A6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7FC8D-3FA9-4D12-867F-FC33869D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B12E9-8FA4-48CF-87FC-382C19B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33E96-67DD-4BF5-8804-6C958583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4EAAC-2528-40B4-B19F-45C787A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080A8-592F-47B1-B89C-82581B1A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8522A-5D1A-43E4-9AA4-23090033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47556-4A10-414A-A6EA-68740BB3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A9D7F-4359-4004-A7A7-A30EF2A6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8047-D965-4BE7-9F43-E8BE1FB3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95F4-E722-4B38-ADC4-1C54F16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81D3-86F9-4291-8A89-A18CE466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1F63A-9998-4D93-A4BA-675C41B5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9908F-6E7E-48AA-9B25-EE7A147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C4BAF-4A17-457D-885E-755BCFB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0E33-0196-4E9C-ADD3-9F4F461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7D57B-C121-4F6A-AEB7-E51132C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11722-3FF0-47EC-9407-830B0979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E4E0E-7C06-4B2B-99C4-8EDFFEED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590C8-FB00-40E9-BA61-DA509362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C3275-2CA6-416A-AEFB-B75A870B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9BAD5-6B43-4C36-BF9C-2A3E7123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AD94-1675-4245-9D67-D8CE9B8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BC372-461F-4A10-A92C-999EE0A0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46905-6704-477D-A265-F0B9FFA3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7AB95-66A7-4C04-93BE-46EBEDE6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802DE-14CF-406D-84E2-2F54CBD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B2F2E-4C84-40C0-AA58-28324BD2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05A28-2A7C-433B-811D-2927D836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1FBFA-7E2A-4C6B-A30A-F115DB29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5C0B3-A2C1-4237-9E33-26AAC1BE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EE374-5B03-41E9-AB65-C843C0AD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010EB-735A-4CC3-8D43-08E0215C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4507C-CBA8-4B3A-942C-1C27FFF4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D57025-C1CC-4E47-8AAC-52BFB830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36AC7-0A83-4D89-9A4B-45096673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9FB25-94AE-42C9-A037-789CE91B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60775-BA68-471B-9564-70BED55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C592D-BA27-4CE7-8987-96FA9616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CE342-2F1C-4CDA-B4ED-55A2085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D3F7C-FDD5-4BEA-A682-33920EA3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0B740-D134-4252-BDBA-DB1A5DE1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1AA9D-3C8B-4BB3-A8AF-320EB67D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B25B8-1EDE-4F64-AFDC-26E3D349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054FC-A5E4-4E62-86E1-4C4877F4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DC4E06-A6DE-4457-9E53-BC96851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74ACBA-4396-4D89-8CB2-3F39AB8D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CB62D-350C-4757-8CFD-46510103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8D7F7C-B269-4E3A-83F7-87817A52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7808BA-F033-4F16-8CE8-3489AB96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0FED4-1097-46C1-9F47-9FB221E2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7079-6B1F-4AFC-8BFD-D964FDF8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9F77A-F4F0-4F35-BC4C-2E2B797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6BB09-9CE2-4A01-A345-3149AB7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4D0FBE-1D01-4AF4-96A1-D7972E82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FB031-E9AA-460B-831C-8A702A99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3B39CB-9011-4020-96B0-E068ED89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AB4519-B739-4BCF-95A6-9B9940CD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DF4A4-99F3-49E2-B68D-A703C11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61290-6DB0-428F-9F0F-7D36DA8C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C6CC2-EB68-4883-9C1C-91D8733B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A5EA4-04AA-4CEF-AF12-CC2755A7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4842C-B2B7-4562-B0E6-FE81CAEE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93C8E-544C-4611-A6EC-523DE5FB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B9F1E-C9E1-4755-8DC6-2C58B4F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4685EA-A6D2-47AC-A3CB-DD8DBD1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3570F-7065-4841-B9AF-A47EC13A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918257-457F-46F3-A727-0FE47433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ED877-DBC4-419A-A28F-92481967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14159-4002-4C92-A404-A46B2A8D1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6D719-A22B-4BB1-A759-CD6C6BD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20087-7402-4525-8B8A-8C0B8744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8A4C3-6BFA-4C35-97A6-48E456CD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9B37E-1D61-4374-BA2F-1E8930B3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147E-5E2D-4ADF-8AF0-B9948F4D74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15BD-ED68-4017-8125-0DF1DE8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2F36E-FF2B-4DE5-886B-A57EEA8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DA558-0A72-4A96-A1FD-65C82BAF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8552A-CBB0-427F-B783-BBEA5138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AAEDE-DC7B-4FA9-8E92-7B6C71E8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BFC5-F27A-4B31-AE0D-5AF1C3BF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4F2C7-1C16-4966-AE3B-3AE6B481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2674-3139-4B0D-87CD-CDA2EFA936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579FD-7E19-410D-BED5-F55752E3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AEA3-E5E1-4650-9AF5-64C95FC2B14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7F059-74EF-423E-AA0B-A018F3BD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EA0C5-A15C-4274-8D33-9686415F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5FEEBF-9621-40F9-8FEF-FE50CFCC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BA408-C2B6-4051-B65B-3F6CE1D7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7858C-30E7-4204-969F-4F00554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2B3BC-552D-4F72-93E0-0FA6C39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E82C9-4634-4FAD-AF39-16145CAB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ADDAF-DFD8-4C49-86F5-4A85524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AB4BD-E4CC-435A-BAFD-17E9E63C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ABCE3-74A9-44FD-B52A-D2E13657B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DC63-C4A5-4B1F-9D19-46F8303536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90F80-FC64-411E-8DFC-84DC1846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06D43-D85F-4ADA-BF3F-607030E2B3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C72C2-E732-44E2-8AC6-C4ABA588F2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55E5E-1462-4CA4-AB27-64DD868461A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9E60C-7B3D-4F7A-9224-EE677E43C0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716469-8B74-488D-848E-DEEA831C24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BC8C1-F02D-4028-8B8D-1D84A5FA8E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04EC9-A26D-4750-B66E-A0AE721813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B11BE-EB20-4642-9EEE-5B81F7FA631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FEBEB-BB51-4413-9DA5-642BFFCB8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044C-01BE-488B-8CB3-412A825362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D0EF1A-2F5E-4487-99F8-DA926141D2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E1D95F-DA90-4661-A61D-C1847EE24B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52B8A3-6CC9-4239-95A6-6B93F74F5DC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DD1D8-0B4C-4E2E-8EFB-73A0D258137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21D7F-5C1F-4293-925B-72E89F30548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EDF5-CB67-41AA-A853-03C78A0B41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6BA45-697E-4B36-B464-EBB550B1ED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6762-D10A-4151-93F9-AB9BBAA0095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0A7D-04EA-4073-A3AD-D371ADE330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ED09-0B35-4862-9689-67D9F00BE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CD092-C52E-4357-B270-4A19BD58050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1157A-4F78-45AE-9D0D-711F5590504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1148-FB85-4649-BC82-39B1867E007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24888-B6C9-4C5C-B1A5-506956538AD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6FF79-50A6-4119-AF1D-B142218A0E4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0249E-7CD7-412C-8E1C-DF3A7A2352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E5AA-7222-4E02-AA3E-3C17583F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FA2B-B4C4-436D-A1A2-1EA795C7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97631-CCF8-4CE5-ACE0-FEE8C0F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82F0-EF3F-4E29-A688-78491F74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07C5-9331-4682-984A-DEBBDE90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11E7A-2DE1-4ECF-872B-029EA608FF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95000" y="338040"/>
            <a:ext cx="89154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97B8-EA8A-44E0-ADF6-D8395303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5C91-C7F1-4F2F-BB39-9A70FF0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F7DB7-7742-4764-9E28-280FA644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8B6C1-6949-468C-AA9E-C3FD2F4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44280" y="4476960"/>
            <a:ext cx="80262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17B0-3E0B-4F2E-80A3-C8D7CEFB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56920" y="267444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4428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56920" y="4476960"/>
            <a:ext cx="391644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9733F-E773-476D-B238-AFF519B2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65796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371640" y="267444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4428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65796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371640" y="4476960"/>
            <a:ext cx="25840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6E4D0-E8E0-466D-8FDC-173FC613B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87C47-062F-44EA-AEE0-AB6C862A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7711-E3DD-4139-B0F4-A52E3F59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91A06-2B15-4A1E-85E1-1461969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747B-4D6F-4CA0-B0F2-664F320B064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ounded Rectangle 13"/>
          <p:cNvSpPr/>
          <p:nvPr/>
        </p:nvSpPr>
        <p:spPr>
          <a:xfrm>
            <a:off x="247680" y="228600"/>
            <a:ext cx="942012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4"/>
          <p:cNvSpPr/>
          <p:nvPr/>
        </p:nvSpPr>
        <p:spPr>
          <a:xfrm>
            <a:off x="6551640" y="4203720"/>
            <a:ext cx="311616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8"/>
          <p:cNvSpPr/>
          <p:nvPr/>
        </p:nvSpPr>
        <p:spPr>
          <a:xfrm>
            <a:off x="2836800" y="4075200"/>
            <a:ext cx="600732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2"/>
          <p:cNvSpPr/>
          <p:nvPr/>
        </p:nvSpPr>
        <p:spPr>
          <a:xfrm>
            <a:off x="3063960" y="4087800"/>
            <a:ext cx="59245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6"/>
          <p:cNvSpPr/>
          <p:nvPr/>
        </p:nvSpPr>
        <p:spPr>
          <a:xfrm>
            <a:off x="6076800" y="4073400"/>
            <a:ext cx="358308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0"/>
          <p:cNvSpPr/>
          <p:nvPr/>
        </p:nvSpPr>
        <p:spPr>
          <a:xfrm>
            <a:off x="228600" y="4059360"/>
            <a:ext cx="94503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9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7B0-C902-4473-9824-7CA4C71C8695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0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1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417-4495-41B4-ADFE-B5342B96EC2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49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2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D14-C060-47A7-AB2F-EAEF60BE4F5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3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4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D3F-AACA-4605-B9D3-61511759D5F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49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25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B6C-1339-4C7D-8F08-E15E9AB0EA4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26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27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8DDE-B3FC-4BB1-9983-6B7DE53ACD8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545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8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397A-ADBE-4662-B874-4F1BF3F63E53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9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0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43A-7ED6-4856-9D79-FE948ACB80F9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ounded Rectangle 11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228600" y="714240"/>
            <a:ext cx="9450360" cy="1330560"/>
            <a:chOff x="228600" y="714240"/>
            <a:chExt cx="9450360" cy="1330560"/>
          </a:xfrm>
        </p:grpSpPr>
        <p:sp>
          <p:nvSpPr>
            <p:cNvPr id="593" name="Freeform 14"/>
            <p:cNvSpPr/>
            <p:nvPr/>
          </p:nvSpPr>
          <p:spPr>
            <a:xfrm>
              <a:off x="6550200" y="85860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8"/>
            <p:cNvSpPr/>
            <p:nvPr/>
          </p:nvSpPr>
          <p:spPr>
            <a:xfrm>
              <a:off x="2836800" y="73152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3063960" y="74268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6"/>
            <p:cNvSpPr/>
            <p:nvPr/>
          </p:nvSpPr>
          <p:spPr>
            <a:xfrm>
              <a:off x="6076800" y="73008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0"/>
            <p:cNvSpPr/>
            <p:nvPr/>
          </p:nvSpPr>
          <p:spPr>
            <a:xfrm>
              <a:off x="228600" y="71424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700C-BCC2-47B8-9CEE-1126849EC40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0A42-FEE1-4695-B210-39D4EB96E86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ounded Rectangle 14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3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641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8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34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F90B-C08D-4482-8576-97CC23E8571E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5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36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33EF-F2F4-4E9A-9D68-AD4308204011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ounded Rectangle 14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8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689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BC0E-58D6-4DF5-894B-8A0A680A114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37F1-3E60-4DA5-A009-2629613B77F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737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0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E7B5-CB8A-4B6D-9E6C-C34C81D733FD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41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42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26A-7BDD-43E0-B812-D4DD0A75481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ounded Rectangle 20"/>
          <p:cNvSpPr/>
          <p:nvPr/>
        </p:nvSpPr>
        <p:spPr>
          <a:xfrm>
            <a:off x="247680" y="228600"/>
            <a:ext cx="942012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4"/>
          <p:cNvGrpSpPr/>
          <p:nvPr/>
        </p:nvGrpSpPr>
        <p:grpSpPr>
          <a:xfrm>
            <a:off x="228600" y="714240"/>
            <a:ext cx="9450360" cy="1332000"/>
            <a:chOff x="228600" y="714240"/>
            <a:chExt cx="9450360" cy="1332000"/>
          </a:xfrm>
        </p:grpSpPr>
        <p:sp>
          <p:nvSpPr>
            <p:cNvPr id="785" name="Freeform 14"/>
            <p:cNvSpPr/>
            <p:nvPr/>
          </p:nvSpPr>
          <p:spPr>
            <a:xfrm>
              <a:off x="6559560" y="860040"/>
              <a:ext cx="3119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"/>
            <p:cNvSpPr/>
            <p:nvPr/>
          </p:nvSpPr>
          <p:spPr>
            <a:xfrm>
              <a:off x="2840040" y="731520"/>
              <a:ext cx="601524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2"/>
            <p:cNvSpPr/>
            <p:nvPr/>
          </p:nvSpPr>
          <p:spPr>
            <a:xfrm>
              <a:off x="3066840" y="742680"/>
              <a:ext cx="59310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6"/>
            <p:cNvSpPr/>
            <p:nvPr/>
          </p:nvSpPr>
          <p:spPr>
            <a:xfrm>
              <a:off x="6083280" y="730080"/>
              <a:ext cx="358920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"/>
            <p:cNvSpPr/>
            <p:nvPr/>
          </p:nvSpPr>
          <p:spPr>
            <a:xfrm>
              <a:off x="228600" y="714240"/>
              <a:ext cx="94503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81B-2B28-4C95-AE8D-1F39DA479FF4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B077-CA6D-4E01-BCB6-7FBAF7BD352A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rezentacja_podtytul"/>
          <p:cNvPicPr/>
          <p:nvPr/>
        </p:nvPicPr>
        <p:blipFill>
          <a:blip r:embed="rId2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639800" y="1600200"/>
            <a:ext cx="77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8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4AE-C919-4322-9B1E-026DC3BD3FA0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Komponent Central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C88C-D9A9-4E2C-8C0C-8A3FEB2B53F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32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prezentacja_podtytul"/>
          <p:cNvPicPr/>
          <p:nvPr/>
        </p:nvPicPr>
        <p:blipFill>
          <a:blip r:embed="rId5"/>
          <a:stretch/>
        </p:blipFill>
        <p:spPr>
          <a:xfrm>
            <a:off x="-203040" y="-139680"/>
            <a:ext cx="10312200" cy="7137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174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prezentacja_tytul"/>
          <p:cNvPicPr/>
          <p:nvPr/>
        </p:nvPicPr>
        <p:blipFill>
          <a:blip r:embed="rId5"/>
          <a:stretch/>
        </p:blipFill>
        <p:spPr>
          <a:xfrm>
            <a:off x="0" y="1440"/>
            <a:ext cx="9906120" cy="6855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znak_KAPITAL_LUDZKI"/>
          <p:cNvPicPr/>
          <p:nvPr/>
        </p:nvPicPr>
        <p:blipFill>
          <a:blip r:embed="rId6"/>
          <a:stretch/>
        </p:blipFill>
        <p:spPr>
          <a:xfrm>
            <a:off x="2143080" y="4716360"/>
            <a:ext cx="3457800" cy="1683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20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wzorzec"/>
          <p:cNvPicPr/>
          <p:nvPr/>
        </p:nvPicPr>
        <p:blipFill>
          <a:blip r:embed="rId2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wzorzec"/>
          <p:cNvPicPr/>
          <p:nvPr/>
        </p:nvPicPr>
        <p:blipFill>
          <a:blip r:embed="rId3"/>
          <a:stretch/>
        </p:blipFill>
        <p:spPr>
          <a:xfrm>
            <a:off x="0" y="1440"/>
            <a:ext cx="9906120" cy="68565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8" descr="AkademiaNFZ_logo.jpg"/>
          <p:cNvPicPr/>
          <p:nvPr/>
        </p:nvPicPr>
        <p:blipFill>
          <a:blip r:embed="rId4"/>
          <a:stretch/>
        </p:blipFill>
        <p:spPr>
          <a:xfrm>
            <a:off x="584280" y="6143760"/>
            <a:ext cx="2012760" cy="598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Komponent Central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ed Rectangle 15"/>
          <p:cNvSpPr/>
          <p:nvPr/>
        </p:nvSpPr>
        <p:spPr>
          <a:xfrm>
            <a:off x="247680" y="228600"/>
            <a:ext cx="942012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228600" y="5354640"/>
            <a:ext cx="9450360" cy="1330200"/>
            <a:chOff x="228600" y="5354640"/>
            <a:chExt cx="9450360" cy="1330200"/>
          </a:xfrm>
        </p:grpSpPr>
        <p:sp>
          <p:nvSpPr>
            <p:cNvPr id="306" name="Freeform 14"/>
            <p:cNvSpPr/>
            <p:nvPr/>
          </p:nvSpPr>
          <p:spPr>
            <a:xfrm>
              <a:off x="6559560" y="5499000"/>
              <a:ext cx="3119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2840040" y="5371920"/>
              <a:ext cx="601524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2"/>
            <p:cNvSpPr/>
            <p:nvPr/>
          </p:nvSpPr>
          <p:spPr>
            <a:xfrm>
              <a:off x="3066840" y="5383080"/>
              <a:ext cx="59310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6"/>
            <p:cNvSpPr/>
            <p:nvPr/>
          </p:nvSpPr>
          <p:spPr>
            <a:xfrm>
              <a:off x="6083280" y="5370480"/>
              <a:ext cx="35892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28600" y="5354640"/>
              <a:ext cx="94503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3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5E32-A64C-4BDA-BDB7-A220CA1B7082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14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15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9CF-3FE7-496C-8131-1F00C9DFE7C8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ounded Rectangle 13"/>
          <p:cNvSpPr/>
          <p:nvPr/>
        </p:nvSpPr>
        <p:spPr>
          <a:xfrm>
            <a:off x="247680" y="228600"/>
            <a:ext cx="942012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5"/>
          <p:cNvGrpSpPr/>
          <p:nvPr/>
        </p:nvGrpSpPr>
        <p:grpSpPr>
          <a:xfrm>
            <a:off x="228600" y="1679400"/>
            <a:ext cx="9450360" cy="1330560"/>
            <a:chOff x="228600" y="1679400"/>
            <a:chExt cx="9450360" cy="1330560"/>
          </a:xfrm>
        </p:grpSpPr>
        <p:sp>
          <p:nvSpPr>
            <p:cNvPr id="354" name="Freeform 14"/>
            <p:cNvSpPr/>
            <p:nvPr/>
          </p:nvSpPr>
          <p:spPr>
            <a:xfrm>
              <a:off x="6550200" y="1823760"/>
              <a:ext cx="311616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8"/>
            <p:cNvSpPr/>
            <p:nvPr/>
          </p:nvSpPr>
          <p:spPr>
            <a:xfrm>
              <a:off x="2836800" y="1696680"/>
              <a:ext cx="600696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3063960" y="1707840"/>
              <a:ext cx="59230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6076800" y="1695240"/>
              <a:ext cx="358308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28600" y="1679400"/>
              <a:ext cx="94503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4280" y="2674440"/>
            <a:ext cx="80262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559404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3C2D-90DD-4D9E-8531-85A36657733B}" type="datetime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209160" y="6249960"/>
            <a:ext cx="410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432396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F0E-0F5B-4DB2-804A-5E08F9D8152C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sip.legalis.pl/document-view.seam?documentId=mfrxilrtge2tqmrtgu2tsltqmfyc4mzrga2dqnbwgm" TargetMode="External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72880" y="259920"/>
            <a:ext cx="9360000" cy="597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Kontraktowanie</a:t>
            </a:r>
            <a:br>
              <a:rPr sz="4400"/>
            </a:br>
            <a:r>
              <a:rPr b="1" lang="pl-PL" sz="4400" spc="-1" strike="noStrike">
                <a:solidFill>
                  <a:srgbClr val="ffffff"/>
                </a:solidFill>
                <a:latin typeface="Candara"/>
              </a:rPr>
              <a:t>świadczeń opieki zdrowotnej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pl-PL" sz="4400" spc="-1" strike="noStrike">
                <a:solidFill>
                  <a:srgbClr val="ff0000"/>
                </a:solidFill>
                <a:latin typeface="Candara"/>
              </a:rPr>
              <a:t>KRYTERIA OCENY OFER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Użyte w rozporządzeniu określenia oznaczają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0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lokalizacj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- budynek lub zespół budynków oznaczonych tym samym adresem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albo oznaczonych innymi adresami, ale położonych obok siebie i tworzących funkcjonalną całość, w których jest zlokalizowane miejsce udzielania świadczeń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1)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miejsce udzielania świadczeń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- pomieszczenie lub zespół pomieszczeń w tej samej lokalizacji, powiązanych funkcjonalnie i organizacyjnie w celu wykonywania świadczeń gwarantowanych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415800" y="1052280"/>
            <a:ext cx="9074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1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ferent, który deklaruje spełnianie warunku podlegającego ocenie, jest obowiązany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go spełniać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 okresie związania ofertą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raz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przez cały okres realizacji umowy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chyba że przepisy rozporządzenia stanowią inaczej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5 ust. 2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Oferent, który zadeklarował spełnianie określonego warunku podlegającego ocenie, jest obowiązany go spełniać </a:t>
            </a: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datkowo ponad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pl-PL" sz="2400" spc="-1" strike="noStrike" u="sng">
                <a:solidFill>
                  <a:srgbClr val="2862aa"/>
                </a:solidFill>
                <a:uFillTx/>
                <a:latin typeface="Times New Roman"/>
              </a:rPr>
              <a:t>warunki realizacji świadczeń określone w rozporządzeniach wydanych na podstawie art. 31d ustawy o świadczeniach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 txBox="1"/>
          <p:nvPr/>
        </p:nvSpPr>
        <p:spPr>
          <a:xfrm>
            <a:off x="272880" y="620280"/>
            <a:ext cx="9360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6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1) certyfikat ma zastosowanie w przedmiocie postępowania, na który złożono ofertę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2) certyfikat obejmuje miejsce udzielania świadczeń wskazane w ofercie, a w przypadku dysponenta zespołów ratownictwa medycznego - miejsce stacjonowania zespołów ratownictwa medycznego wskazane w ofercie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3)  certyfikat jest wydany przez jednostkę certyfikującą systemy zarządzania posiadającą akredytację udzieloną przez Polskie Centrum Akredytacji lub przez jednostkę akredytującą będącą sygnatariuszem porozumienia o wzajemnym uznawaniu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„EA Multilateral Agreement” i jest opatrzony symbolem akredytacji jednostki akredytującej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4) certyfikat jest wydany w zakresie systemów zarządzania: ISO 9001, ISO/IEC 27001, ISO 17025 lub 15189 - zgodnie z ich przyporządkowaniem do poszczególnych zakresów świadczeń wynikającym z załączników do rozporządzenia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5) akredytacja, o której mowa w pkt 3, obejmuje certyfikację systemów zarządzania wymienionych w pkt 4 oraz jest wydana w zakresie usług medycznych (branża „Zdrowie i opieka społeczna” zgodnie z kodem 38 EA, w przypadku: ISO 9001, ISO 14001,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PN-N 18001 lub OHSAS 18001)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415440" y="620640"/>
            <a:ext cx="900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7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wpisu do rejestru jest spełnione, jeżeli wpis jest ujawniony w księdze rejestrowej oferenta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8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Kryterium "jakość - wyniki kontroli" jest spełnione, jeżeli nieprawidłowość dotyczy umowy realizowanej w dniu złożenia oferty w ramach danego zakresu świadczeń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i w ramach obszaru, którego dotyczy postępowanie, oraz została stwierdzona </a:t>
            </a:r>
            <a:br>
              <a:rPr sz="2000"/>
            </a:b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ostępowaniu kontrolnym zakończonym wystąpieniem pokontrolnym lub w trakcie monitorowania, o którym mowa w art. 107 ust. 5 pkt 12 ustawy o świadczeniach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944280" y="1700280"/>
            <a:ext cx="80262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Jakość wyniki kontroli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Przedmiotowe kryterium obejmuje wszystkie kontrol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(a nie jedynie ostatnią), dotyczące umowy realizowanej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dniu złożenia oferty w ramach danego zakresu świadczeń i w ramach obszaru, którego dotyczy postępow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488880" y="620640"/>
            <a:ext cx="9072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§ 9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W przypadku uzyskania jednakowej łącznej oceny oferty przez co najmniej dwóch oferentów kryterium różnicującym oferty stanowi ocena uzyskana w kolejności według następujących kryteriów: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,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iągłość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 oraz </a:t>
            </a: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cena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pielęgnacyjne i opiekuńcze w ramach opieki długoterminowej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pielęgniarskiej opiece długoterminowej domow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933480" y="1341360"/>
            <a:ext cx="8110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6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tylko pielęgniarki z ukończoną specjalizacją lub kursem kwalifikacyjnym we wskazanej dziedzinie pielęgniarstwa, 40% liczone od sumy wykazanego czasu pracy pielęgniarek w oferci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631800" y="1744560"/>
            <a:ext cx="8713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560160" y="1484280"/>
            <a:ext cx="900108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Ministra Zdrowia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sprawie szczegółowych kryteriów wyboru ofert w postępowaniu w sprawie zawarcia umów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 udzielanie świadczeń opieki zdrowotn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5 sierpnia 2016 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(Dz.U. z 2016 r. poz. 1372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D4C0-F579-4CC1-840B-1F0170E2DDD9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8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2-letnim doświadczeniem w udzielaniu świadczeń w warunkach domowych…” – bierze się pod uwagę udokumentowany staż pracy w pielęgniarskiej opiece długoterminowej domowej, podstawowej opiece zdrowotnej (pielęgniarki poz), pracy w domu pomocy społecz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9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Pielęgniarki z co najmniej 3-letnim doświadczeniem w pielęgnacji chorych w warunkach oddziału szpitalnego …” – bierze się pod uwagę udokumentowany staż pracy w warunkach oddziału szpitalnego (bez izby przyjęć, SO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warunek „Co najmniej 50% pielęgniarek udziela świadczeń w wymiarze równoważnika 1 etatu” – dotyczy liczby pielęgniarek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 nie czasu pracy pielęgniarek) i tylko umów o pracę (wyjątek samozatrudnienie tj. indywidualne, grupowe praktyki pielęgniarskie) należy pamiętać o konieczności spełniania tego warunku przez cały okres obowiązywania umow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631800" y="2792520"/>
            <a:ext cx="87138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2" name=""/>
          <p:cNvGraphicFramePr/>
          <p:nvPr/>
        </p:nvGraphicFramePr>
        <p:xfrm>
          <a:off x="776160" y="2276640"/>
          <a:ext cx="8498160" cy="309708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3097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iając przedmiotowy warunek należy brać pod uwagę wszystkich świadczeniobiorców, którzy otrzymali ocenę według skali Barthel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5 ze skierowania lub uzyskali taką oceną przynajmniej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 w trakcie pielęgniarskiej opieki długoterminowej domowej i byli objęci taką opieką przez co najmniej 90 dni w okresie ostatnich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miesięcy poprzedzających o 2 miesiące miesiąc, w którym ogłoszono postępowanie</a:t>
                      </a: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488880" y="2433600"/>
            <a:ext cx="8928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4" name=""/>
          <p:cNvGraphicFramePr/>
          <p:nvPr/>
        </p:nvGraphicFramePr>
        <p:xfrm>
          <a:off x="488880" y="1484280"/>
          <a:ext cx="8785440" cy="40338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3988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obliczeń procentowego udziału świadczeniobiorców z oceną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punktów w skali Barthel, należy brać pod uwagę wszystkie osoby objęte pielęgniarską opieką długoterminową domową, które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załączonej do skierowania karcie oceny lub w trakcie opieki uzyskały przynajmniej raz ocenę 0 punktów w skali Barthel, w stosunk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szystkich osób objętych tą formą opieki przez danego świadczeniodawcę. Sformułowanie "objętych opieką w ramach pielęgniarskiej opieki długoterminowej domowej" oznacza zarówno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 osoby , które zostały przyjęte do takiej opieki w badanym okresie czasu, jak i te osoby, które były przyjęte wcześniej, a kontynuowały opiek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488880" y="2701800"/>
            <a:ext cx="892800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704880" y="1700280"/>
          <a:ext cx="8496360" cy="338436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33843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a wyliczania jest analogiczna jak w ppkt.1.2 Podstawę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 wyliczenia stanowią wszystkie osoby objęte pielęgniarską opieką długoterminową, które w trakcie opieki przynajmniej raz otrzymały ocenę 5-15 punktów w skali Barthel, w stosunku do wszystkich osób objętych tą formą opieki przez danego świadczeniodawcę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488880" y="2576520"/>
            <a:ext cx="8928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88520" y="1196640"/>
            <a:ext cx="9001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Rozporządzenie określa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szczegółowe kryteria wyboru ofert 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 </a:t>
            </a:r>
            <a:r>
              <a:rPr b="1" lang="pl-PL" sz="3200" spc="-1" strike="noStrike" u="sng">
                <a:solidFill>
                  <a:srgbClr val="ff0000"/>
                </a:solidFill>
                <a:uFillTx/>
                <a:latin typeface="Candara"/>
              </a:rPr>
              <a:t>w podziale na poszczególne zakresy lub rodzaje świadczeń opieki zdrowotnej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na podstawie </a:t>
            </a:r>
            <a:r>
              <a:rPr b="0" lang="pl-PL" sz="32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art. 148 ust. 3</a:t>
            </a: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 ustawy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z dnia 27 sierpnia 2004 r. o świadczeniach opieki zdrowotnej finansowanych ze środków publicznych ( t.j. Dz.U. z 2018 r. poz. 1510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4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ED4-0C26-42CF-A6A4-6780163CA52E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8" name=""/>
          <p:cNvGraphicFramePr/>
          <p:nvPr/>
        </p:nvGraphicFramePr>
        <p:xfrm>
          <a:off x="704880" y="1484280"/>
          <a:ext cx="8569440" cy="39607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396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leży przyjąć, że kryterium jest spełnione, jeżeli dotyczy wszystkich świadczeniobiorców objętych świadczeniami pielęgniarskiej opieki długoterminowej domowej w okresach pomiędzy wszystkimi hospitalizacjami oraz po ich zakończeniu, z wyłączeniem zgonu </a:t>
                      </a:r>
                      <a:br>
                        <a:rPr sz="2400"/>
                      </a:b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 objęcia świadczeniobiorcy inną formą opieki w ramach świadczeń opieki zdrowotnej finansowanych ze środków publicznych. Spełnienie ww. warunku kryterialnych oferent może potwierdzić na podstawie zgromadzonej dokumentacji medycznej. np. w sytuacji gdy pacjent zrezygnuje ze świadczeń pielęgniarskiej opieki długoterminow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488880" y="3292560"/>
            <a:ext cx="8928000" cy="7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704880" y="1197000"/>
            <a:ext cx="8209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488880" y="2643120"/>
            <a:ext cx="8928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2" descr=""/>
          <p:cNvPicPr/>
          <p:nvPr/>
        </p:nvPicPr>
        <p:blipFill>
          <a:blip r:embed="rId1"/>
          <a:stretch/>
        </p:blipFill>
        <p:spPr>
          <a:xfrm>
            <a:off x="488880" y="2492280"/>
            <a:ext cx="89280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488880" y="2421000"/>
            <a:ext cx="89280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4" name=""/>
          <p:cNvGraphicFramePr/>
          <p:nvPr/>
        </p:nvGraphicFramePr>
        <p:xfrm>
          <a:off x="776160" y="2205000"/>
          <a:ext cx="8425080" cy="3095640"/>
        </p:xfrm>
        <a:graphic>
          <a:graphicData uri="http://schemas.openxmlformats.org/drawingml/2006/table">
            <a:tbl>
              <a:tblPr/>
              <a:tblGrid>
                <a:gridCol w="8425080"/>
              </a:tblGrid>
              <a:tr h="3095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jest spełniony, gdy oferent wg stanu na dzień złożenia oferty udziela świadczeń w ramach zawartej umowy w danym zakresie świadczeń oraz w danym obszarze, na który zostało ogłoszone postępowanie. </a:t>
                      </a:r>
                      <a:r>
                        <a:rPr b="0" lang="pl-PL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tyczy także sytuacji dokonania sukcesji generalnej czy cesji umowy, cesjonariusz (sukcesor) wchodzi w ogół praw i obowiązków wynikających z umowy o udzielanie świadczeń opieki zdrowotnej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415800" y="2492280"/>
            <a:ext cx="89283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6" name=""/>
          <p:cNvGraphicFramePr/>
          <p:nvPr/>
        </p:nvGraphicFramePr>
        <p:xfrm>
          <a:off x="776160" y="1773360"/>
          <a:ext cx="8498160" cy="3600360"/>
        </p:xfrm>
        <a:graphic>
          <a:graphicData uri="http://schemas.openxmlformats.org/drawingml/2006/table">
            <a:tbl>
              <a:tblPr/>
              <a:tblGrid>
                <a:gridCol w="8498160"/>
              </a:tblGrid>
              <a:tr h="18907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5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0964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unek spełniony, gdy oferent wg stanu na dzień złożenia oferty udziela świadczeń w ramach zawartej umowy od 10 lat w danym zakresie świadczeń oraz w danym obszarze, na który zostało ogłoszone postępowanie (komórka organizacyjn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"/>
          <p:cNvPicPr/>
          <p:nvPr/>
        </p:nvPicPr>
        <p:blipFill>
          <a:blip r:embed="rId1"/>
          <a:stretch/>
        </p:blipFill>
        <p:spPr>
          <a:xfrm>
            <a:off x="560520" y="2565360"/>
            <a:ext cx="8713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982F-F930-4362-97DF-B294E58BC166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5" descr=""/>
          <p:cNvPicPr/>
          <p:nvPr/>
        </p:nvPicPr>
        <p:blipFill>
          <a:blip r:embed="rId1"/>
          <a:stretch/>
        </p:blipFill>
        <p:spPr>
          <a:xfrm>
            <a:off x="920880" y="1700280"/>
            <a:ext cx="8208720" cy="3989160"/>
          </a:xfrm>
          <a:prstGeom prst="rect">
            <a:avLst/>
          </a:prstGeom>
          <a:ln w="0">
            <a:noFill/>
          </a:ln>
        </p:spPr>
      </p:pic>
      <p:sp>
        <p:nvSpPr>
          <p:cNvPr id="845" name="Strzałka w lewo 1"/>
          <p:cNvSpPr/>
          <p:nvPr/>
        </p:nvSpPr>
        <p:spPr>
          <a:xfrm>
            <a:off x="8481960" y="243360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6" descr=""/>
          <p:cNvPicPr/>
          <p:nvPr/>
        </p:nvPicPr>
        <p:blipFill>
          <a:blip r:embed="rId2"/>
          <a:stretch/>
        </p:blipFill>
        <p:spPr>
          <a:xfrm>
            <a:off x="8459640" y="3573360"/>
            <a:ext cx="1030320" cy="304920"/>
          </a:xfrm>
          <a:prstGeom prst="rect">
            <a:avLst/>
          </a:prstGeom>
          <a:ln w="0">
            <a:noFill/>
          </a:ln>
        </p:spPr>
      </p:pic>
      <p:sp>
        <p:nvSpPr>
          <p:cNvPr id="847" name="Strzałka w lewo 7"/>
          <p:cNvSpPr/>
          <p:nvPr/>
        </p:nvSpPr>
        <p:spPr>
          <a:xfrm>
            <a:off x="8459640" y="4941720"/>
            <a:ext cx="1008360" cy="287640"/>
          </a:xfrm>
          <a:prstGeom prst="leftArrow">
            <a:avLst>
              <a:gd name="adj1" fmla="val 50000"/>
              <a:gd name="adj2" fmla="val 4995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344520" y="1341000"/>
            <a:ext cx="9145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 – 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świadczenia w hospicjum domowy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944640" y="1268280"/>
            <a:ext cx="8026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560520" y="1557360"/>
            <a:ext cx="84103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560520" y="2205000"/>
            <a:ext cx="8410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2" descr=""/>
          <p:cNvPicPr/>
          <p:nvPr/>
        </p:nvPicPr>
        <p:blipFill>
          <a:blip r:embed="rId1"/>
          <a:stretch/>
        </p:blipFill>
        <p:spPr>
          <a:xfrm>
            <a:off x="560520" y="1644480"/>
            <a:ext cx="84103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"/>
          <p:cNvPicPr/>
          <p:nvPr/>
        </p:nvPicPr>
        <p:blipFill>
          <a:blip r:embed="rId1"/>
          <a:stretch/>
        </p:blipFill>
        <p:spPr>
          <a:xfrm>
            <a:off x="560520" y="2276640"/>
            <a:ext cx="85690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85636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2" descr=""/>
          <p:cNvPicPr/>
          <p:nvPr/>
        </p:nvPicPr>
        <p:blipFill>
          <a:blip r:embed="rId1"/>
          <a:stretch/>
        </p:blipFill>
        <p:spPr>
          <a:xfrm>
            <a:off x="560520" y="2421000"/>
            <a:ext cx="841032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944280" y="1125360"/>
            <a:ext cx="8026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Problematyczne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spełnienia warunku w którym występuje pojęcie „świadczeniobiorcy” przez oferentów, którzy nie byli dotychczas stroną umowy zawartej z NFZ (opinia MZ wskazująca na równe traktowanie wszystkich świadczeniodawców ubiegających się o zawarcie umow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eryfikacja warunków dodatkowo ocenianych powinno być prowadzone w oparciu o dostępne dla NFZ dane,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zypadku danych niedostępnych dla NFZ, oferent który zadeklarował spełnianie określonego warunku, jest zobowiązany go udokumentować. Potwierdzenie jest możliwe w szczególności na podstawie zgromadzonej dokumentacji medycznej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2" descr=""/>
          <p:cNvPicPr/>
          <p:nvPr/>
        </p:nvPicPr>
        <p:blipFill>
          <a:blip r:embed="rId1"/>
          <a:stretch/>
        </p:blipFill>
        <p:spPr>
          <a:xfrm>
            <a:off x="1446120" y="3048120"/>
            <a:ext cx="7016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415440" y="1700280"/>
            <a:ext cx="9145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yrażenie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„</a:t>
            </a: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12 miesięcy poprzedzających o 2 miesiące miesiąc,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którym ogłoszono postępowanie” np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głoszenie postępowania konkursowego w dniu 7 marca 2019 r. wówczas należy brać pod uwagę okr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od 1 stycznia 2018 r. do 31 grudnia 2018 r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631800" y="2060640"/>
            <a:ext cx="8785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d83f4"/>
                </a:solidFill>
                <a:latin typeface="Candara"/>
                <a:ea typeface="Arial"/>
              </a:rPr>
              <a:t>Dziękuję za uwagę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5240160" y="436572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"/>
          <p:cNvSpPr/>
          <p:nvPr/>
        </p:nvSpPr>
        <p:spPr>
          <a:xfrm>
            <a:off x="5168880" y="5084640"/>
            <a:ext cx="36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45216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Świadczenia pielęgnacyjne i opiekuńcze </a:t>
            </a:r>
            <a:br>
              <a:rPr sz="3200"/>
            </a:b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w ramach opieki długoterminowej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9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Rozporządzenie Ministra Zdrowia zmieniające rozporządzenie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sprawie szczegółowych kryteriów wyboru ofert </a:t>
            </a:r>
            <a:br>
              <a:rPr sz="2400"/>
            </a:b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w postępowaniu w sprawie zawarcia umów o udzielanie świadczeń opieki zdrowotnej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73e87"/>
                </a:solidFill>
                <a:latin typeface="Candara"/>
              </a:rPr>
              <a:t>z dnia 8 lutego 2018 r. (Dz.U. z 2018 r. poz. 385) – </a:t>
            </a:r>
            <a:r>
              <a:rPr b="1" lang="pl-PL" sz="2400" spc="-1" strike="noStrike">
                <a:solidFill>
                  <a:srgbClr val="ff0000"/>
                </a:solidFill>
                <a:latin typeface="Candara"/>
              </a:rPr>
              <a:t>załącznik nr 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0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64AC-0FB8-4999-81E4-BABC9C6787E1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415440" y="1484280"/>
            <a:ext cx="9001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0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73e87"/>
                </a:solidFill>
                <a:latin typeface="Candara"/>
              </a:rPr>
              <a:t>Opieka paliatywna i hospicyjna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108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Rozporządzenie Ministra Zdrowia z dnia 5 sierpnia 2016 r. w sprawie szczegółowych kryteriów wyboru ofert w postępowaniu w sprawie zawarcia umów o udzielanie świadczeń opieki zdrowotnej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(Dz.U. z 2016, poz. 1372 z późniejszymi zmianami - w szczególności </a:t>
            </a:r>
            <a:br>
              <a:rPr sz="2200"/>
            </a:br>
            <a:r>
              <a:rPr b="1" lang="pl-PL" sz="2200" spc="-1" strike="noStrike">
                <a:solidFill>
                  <a:srgbClr val="073e87"/>
                </a:solidFill>
                <a:latin typeface="Candara"/>
              </a:rPr>
              <a:t>Dz. U. z 2017 r. poz. 1279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108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Candara"/>
              </a:rPr>
              <a:t>Załącznik nr 11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–  Wykaz szczegółowych kryteriów wyboru ofert </a:t>
            </a:r>
            <a:br>
              <a:rPr sz="2000"/>
            </a:b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wraz z wyznaczającymi je warunkami oraz przypisaną im wartością w rodzaju </a:t>
            </a:r>
            <a:r>
              <a:rPr b="1" lang="pl-PL" sz="2000" spc="-1" strike="noStrike">
                <a:solidFill>
                  <a:srgbClr val="ff0000"/>
                </a:solidFill>
                <a:latin typeface="Candara"/>
              </a:rPr>
              <a:t>opieka paliatywna i hospicyjna - </a:t>
            </a:r>
            <a:r>
              <a:rPr b="1" lang="pl-PL" sz="2000" spc="-1" strike="noStrike">
                <a:solidFill>
                  <a:srgbClr val="073e87"/>
                </a:solidFill>
                <a:latin typeface="Candara"/>
              </a:rPr>
              <a:t>ze zmianami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2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7E9-7E66-46ED-8E0B-B91734355BD7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848880" y="1773000"/>
            <a:ext cx="8280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1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dla poszczególnych zakresów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862aa"/>
                </a:solidFill>
                <a:latin typeface="Times New Roman"/>
              </a:rPr>
              <a:t>Tabela nr 2 </a:t>
            </a:r>
            <a:r>
              <a:rPr b="0" lang="pl-PL" sz="2000" spc="-1" strike="noStrike">
                <a:solidFill>
                  <a:srgbClr val="2862aa"/>
                </a:solidFill>
                <a:latin typeface="Times New Roman"/>
              </a:rPr>
              <a:t>określa warunki wspólne dla całego rodzaju świadczeń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862a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862aa"/>
                </a:solidFill>
                <a:latin typeface="Arial"/>
              </a:rPr>
              <a:t>Kryteria wyboru ofer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jak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dostępn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kompleksowoś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862a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338040"/>
            <a:ext cx="89154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andara"/>
              </a:rPr>
              <a:t>OPIEKA PALIATYWNA I HOSPICYJNA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95000" y="2637000"/>
            <a:ext cx="89154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862aa"/>
                </a:solidFill>
                <a:latin typeface="Candara"/>
              </a:rPr>
              <a:t>Oceny ofert, według określonych kryteriów, dokonuje się odrębnie dla każdego oferowanego zakresu świadczeń opieki zdrowotnej w ramach danego postępowania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57" name="Symbol zastępczy numeru slajdu 3"/>
          <p:cNvSpPr/>
          <p:nvPr/>
        </p:nvSpPr>
        <p:spPr>
          <a:xfrm>
            <a:off x="4324320" y="6249960"/>
            <a:ext cx="1257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0ECC-EAEB-4A09-A3A3-400DB3F05D73}" type="slidenum">
              <a:rPr b="0" lang="pl-PL" sz="1000" spc="-1" strike="noStrike">
                <a:solidFill>
                  <a:srgbClr val="073e87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16:07Z</dcterms:created>
  <dc:creator>katarzyna.wiktorzak</dc:creator>
  <dc:description/>
  <dc:language>en-US</dc:language>
  <cp:lastModifiedBy>Wojciech Mika</cp:lastModifiedBy>
  <cp:lastPrinted>2014-03-13T11:33:09Z</cp:lastPrinted>
  <dcterms:modified xsi:type="dcterms:W3CDTF">2019-03-15T13:18:14Z</dcterms:modified>
  <cp:revision>1282</cp:revision>
  <dc:subject/>
  <dc:title>Slajd 1</dc:title>
</cp:coreProperties>
</file>