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13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  <p:sldId id="314" r:id="rId79"/>
    <p:sldId id="315" r:id="rId80"/>
    <p:sldId id="316" r:id="rId81"/>
    <p:sldId id="317" r:id="rId82"/>
    <p:sldId id="318" r:id="rId83"/>
    <p:sldId id="319" r:id="rId84"/>
    <p:sldId id="320" r:id="rId85"/>
    <p:sldId id="321" r:id="rId86"/>
    <p:sldId id="322" r:id="rId87"/>
    <p:sldId id="323" r:id="rId88"/>
    <p:sldId id="324" r:id="rId89"/>
    <p:sldId id="325" r:id="rId90"/>
  </p:sldIdLst>
  <p:sldSz cx="9907588" cy="6858000"/>
  <p:notesSz cx="66706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slide" Target="slides/slide59.xml"/><Relationship Id="rId80" Type="http://schemas.openxmlformats.org/officeDocument/2006/relationships/slide" Target="slides/slide60.xml"/><Relationship Id="rId81" Type="http://schemas.openxmlformats.org/officeDocument/2006/relationships/slide" Target="slides/slide61.xml"/><Relationship Id="rId82" Type="http://schemas.openxmlformats.org/officeDocument/2006/relationships/slide" Target="slides/slide62.xml"/><Relationship Id="rId83" Type="http://schemas.openxmlformats.org/officeDocument/2006/relationships/slide" Target="slides/slide63.xml"/><Relationship Id="rId84" Type="http://schemas.openxmlformats.org/officeDocument/2006/relationships/slide" Target="slides/slide64.xml"/><Relationship Id="rId85" Type="http://schemas.openxmlformats.org/officeDocument/2006/relationships/slide" Target="slides/slide65.xml"/><Relationship Id="rId86" Type="http://schemas.openxmlformats.org/officeDocument/2006/relationships/slide" Target="slides/slide66.xml"/><Relationship Id="rId87" Type="http://schemas.openxmlformats.org/officeDocument/2006/relationships/slide" Target="slides/slide67.xml"/><Relationship Id="rId88" Type="http://schemas.openxmlformats.org/officeDocument/2006/relationships/slide" Target="slides/slide68.xml"/><Relationship Id="rId89" Type="http://schemas.openxmlformats.org/officeDocument/2006/relationships/slide" Target="slides/slide69.xml"/><Relationship Id="rId90" Type="http://schemas.openxmlformats.org/officeDocument/2006/relationships/slide" Target="slides/slide70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67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663120" y="740880"/>
            <a:ext cx="53406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9C64B45-71D2-47E6-8AAD-FE07DDA2358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038ED88B-EC8B-4F28-9C35-41AD9558C11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093FCA6-BAB7-4141-95E8-333EF08C650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678F-0F25-41C4-8916-64111D9CE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776AE-A94E-49EF-897A-BA13E7BA6CE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CA069-E63C-426B-A660-C57755BF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24A4E-A846-4C72-A438-5D433DD9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43F3C-9FA2-4036-B7D1-4DE8DFD6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44F33-1254-411C-9EA3-554B9AAD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4B6C4-9B39-4A00-B395-B5EA7C68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6A412-3F7A-461B-BD03-B61AD1D5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8596C-1812-428A-9699-CDA0878C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40CA1-C4A3-4E04-A36B-478FD255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D6877-15BA-4076-9428-211AF5C1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53F6E-23F4-4C02-A77B-869191F2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A7F81-7819-40D9-B796-49E29A4C791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3BF8A-87BB-439C-A8F4-799BFF91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08219-4824-4602-BA8C-56B0583F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674D2-E641-42F0-8BE0-1756D2AD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EA547-51D2-4EF3-A772-06410555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ABEFD-6C50-4704-892D-2838B6BD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0D921-4B0A-4701-B3E7-5CE7CD91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5D3B4-C074-42E6-A842-A03A707E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287A6-728E-403E-9693-7CCCC173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02A4A-993A-4D10-B1D5-195D5153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67A2B-A36E-4F08-86E0-1F44FB66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2FE44-5398-45C7-874B-8B00D99A442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F5D73-0224-4719-9563-A613A977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6F212-E688-4740-8005-A1F3008AC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CE9BA-6839-454E-871A-C60E8AB1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4659B-507B-4641-B102-2D4670E6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D2966-6EF3-4294-AA96-5FEB6342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E0E2E-7DF4-40CD-A54F-D3B4CAAD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FDC1B-D010-4B11-899D-CD9F23B5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1A1C4-9A75-474D-8EF9-F768E5DD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962DF-136D-4622-AFCD-2E119087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72F27-28EF-42F5-ABB5-2FEB74DD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46D52-1043-4180-8082-7D859F17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9F462-C839-4F07-A67F-B84B8203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FA11D-682F-4C6E-8033-295A2CFD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B4946-2828-4D5A-A13E-8470DAE4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00180-8A3E-4102-8242-54CEA9B6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77F51-BEFD-472F-A0B5-227D2F2E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47FB0-14B2-4B38-A1AB-F1983728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CB4C7-7E9C-4446-A6A9-61D27D2F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DDE68-F724-496E-94C9-CCA401AD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6A1FF-5D69-42DB-A013-C5A9E8A6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2A20F-96AC-4947-A6C3-DC6BD4AD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CE607-884E-4940-B0BB-8249F71A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55EEA-94B5-44E9-98EE-76C9A746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B5621-5F84-44C0-948B-F6ED92CD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0AF59-1DDA-4CE4-A119-D0BB23C9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A5F27-C424-449B-85E6-39982BAC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49240-7B62-48A5-A98F-179DA7E2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48950-E07B-49A5-B9A9-F8BC3800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EDC07-12A5-4ED5-A84F-B072AACF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76B41-F35F-4194-89F3-C4C231A1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4433E-C68F-4DBE-9987-7C81B4D7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8FFA6-3574-4274-9AF6-B9A20A36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9B99B-C121-4421-831C-2F3C7F0C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E124C-A61E-469C-B5C8-181224FF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E1B70-A22E-4EF4-B385-89C3685B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1F8C0-644F-45A8-9910-3B657CBE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4B1DD-5B81-4025-9ACD-389CF766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37BF1-7C47-4B8F-BA92-46E039E1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DB28D-CD8E-4632-B781-D3C57F83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640B3-14BE-456F-ACA7-7CD4397B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B8E6A-49FB-4506-8B9D-55F1714B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B708C-C416-44B1-B7B3-DAAB8C2A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06711-F394-4AFE-9D64-4BAFE473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D29E8-7C0E-4D63-8153-0C03D1CF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A2A06-B2E0-4B83-A294-78C32340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37DE5-0048-4E98-82A8-EA9EF415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E0FE3-B108-47CB-968B-0A9227F9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E504C-ABAF-45A1-81E8-DC6E2D04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17D3B-C840-437B-961E-508D2A8F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5C455-C815-48C8-995E-7608D842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743F1-CC82-4863-8217-8B722D49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4C4A7-6926-4BB8-A9C4-D2C976A5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54B36-7218-453E-922A-8B5408B9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9974B-40A0-4E4C-8A6B-D49524B0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4F3CA-70A0-4C2B-8A62-503E75F7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F0EED-F35E-40E5-A182-9FDEEB8E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0F309-9057-4D90-B311-6B04FFFC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33980-A0D7-4B73-977F-AE7AD433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8AF59-10BE-417F-A945-95FD741C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52C17-FE85-409C-9806-E8CA08D1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25D35-F95C-4260-896F-047C47C8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CBA276-A666-4BF4-9A0F-079EB3D8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4C8AC-0532-4C58-B08A-C048915F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18F31-D8C0-4530-A84A-A36BAD5D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349C5E-F147-4145-9989-D0B14C08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D95E6-DB4A-4DA1-AACE-5E94736A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CD9BD-C18C-48F3-8B2A-68BE8B53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4953B-968C-4E6F-A481-DF29A9ED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5A3D2B-2F2D-4F65-9E28-CE6B006A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96DB9-A12D-4A22-89AF-6D39069F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DFBD6-FD41-4247-9AF7-C9F0E713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4D1D8-E6BD-401F-AE73-6D67C91B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EFB803-8061-4AFD-A542-BA41A59B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09F222-9495-4682-B539-9324F660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8A5B76-1621-4F3B-B577-5A2011EF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8C59D-83BD-4428-8441-D82D14BB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E6F709-32CB-4E9D-81A1-22163C05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7ACE0D-9914-4AC4-B85A-B44B7EBD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D8C43-1FB8-4266-9D33-A47F4F7D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33B05-44F0-4321-A83F-3AEB91D7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46E62-F969-464F-AD9F-F43249432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53B8AB-D965-465E-985D-E00B5CF1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E68C0-069F-4C1C-9932-7941B67F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307BE5-B40E-4305-BACF-0C800954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38B207-C25B-472D-9064-16D9E77D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42FA21-F4EF-44A3-82CB-E44B5F62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18ADEA-A2AA-452B-B002-18794AF9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E1A28E-F571-4322-90A7-B6952C96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E2DA2D-A10D-44FE-8CD2-50BC68FE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6BA16D-99B8-4F85-9F99-DD4258D9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3A7FB5-F181-426D-ACC5-FCC9D216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910877-8DF3-4735-AD24-A4D35BD1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B15C64-1CBB-4674-9352-BD0AAC34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86526A-750B-4E9A-868D-56D5FFEB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C11FA6-AAA5-4386-8F1F-4F1EFF63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D91FB1-D5AD-49C3-B058-018FCAC9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58C5B0-D7D9-4C76-A958-8C8D84E1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35A4DC-7839-468F-AB4B-B2F94B75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6544C-31F8-4289-9475-1C00611A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E45AC-5099-4C0D-BC73-93FD3680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0E050-B139-4A3D-B24E-19D187AC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381EE-3D43-471D-9087-82515C59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AF848-CA3A-4D73-822C-82B77801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B6688-A722-4EF1-A0DC-0EDDABB947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E8A00-2D7B-4E5E-ADD4-90047DD2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3F3F4-6CE9-4ED8-A91F-9B6888DB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9DAC4-538B-4ABA-A782-FAF5252D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78A94-6655-4EF4-A1D3-6FD26345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2E7D9-C3FC-428E-8E07-27E9958D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8F289-96B0-46CA-B335-4DF59CFC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933C8-60F4-40DC-AE19-7304F158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B83B3-2D4D-4A95-AE4E-2684917B8A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80F32-ECEE-4AFC-A743-A1EFCABD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92E57-B9DA-4930-A091-05BCBE20411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062EE-C7C8-4D4E-8E77-43D7A4BC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3AF16-8337-4245-8E79-53D692D0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CEE93-544B-4AED-9BE4-F4391EB0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C0347-31B6-4DFF-A9B7-7F25F1B2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9959E-4D51-4DD3-B388-A08CCC3B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CF119F-C5DA-4609-ABDF-5D9158B6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FABE4-BECC-4167-B6FA-A8ACBAA7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5E4590-BE2C-46DC-8F4D-2E221978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500FB-DC23-4161-8E7C-CC4CA3EA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37F9A-782C-4333-A9D9-98C40B86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0D11B-9C13-4E33-9968-0179BC51F87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316E92-345E-44DE-B6E4-85D1FF2D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1E13B9-1F1F-44D0-BA5A-800FD89D598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1B30DE-CF47-4E41-9B3B-290811A06BD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77758E-5355-4F38-8408-7E17226F65A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A13683-28D7-43CB-941D-4412F87C9AF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151787-7B18-4516-B617-A3FCBB96B03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BE0ABF-E5C9-485A-A48F-094C60C0B06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7A5C5C-F09E-4E99-9A39-F6E31C83294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7D53B2-E4E8-4749-8CFA-87E45BB7AB3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9B2AF3-6F47-433C-A558-6AB24BCC5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BE51D-D81E-4778-B348-9FCB69B93E3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8561A5-75BA-4923-9792-5C5BDAF5B22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6151AF-7955-4538-A02A-BDA7C4FE1B5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C861AD-82D1-49F5-80F1-4190EDCD50C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D14DB-A71A-44B6-9BB7-4CB5B7354D2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90573-962D-4737-A2D4-CB040198E79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F9866-12E6-4711-9E49-4CB43318431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FD0C7-D694-4320-B1E0-C3858AEA444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A7E1B-064C-45ED-8F13-80226CFB751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7F5E3-C406-48F1-B522-EF6D7830614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AD5BF-C01C-4E07-BCB6-7927E03B3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56B85-94B0-47E0-932D-9F6AE44EF50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CD969-AEB1-4B80-99BD-42CF9185355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0C5EF-59E9-41F0-9BCE-A32FA2B154E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D378E-4202-4CC2-AE78-81E1A841572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4CA0F-41FB-40BE-BF07-13DBBAB7FF3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15AA8-FA8B-4F82-B94A-018471DF2F1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3AEC1-5095-4065-BA68-966B7B58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689A4-D546-4817-8AD1-A499E5EC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B9BF0-589B-4082-B287-6598953F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B2A38-C6FF-4FAF-A4EC-BCA0B8F1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7495B-2CD2-46D4-B016-04977D62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A6C70-76E5-4AA1-9F5B-3967AF1D4ED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BDD96-C481-467E-A843-B3EF775E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67216-51E3-4D96-8D1A-16B5DE29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99EC5-4F66-4662-A31D-1ABDB136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27F3A-570C-4FCC-A316-B978607A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2A2B4-23CA-4520-BD55-133839B6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14DCA-4AA8-4BFA-808B-35A792D6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D356D-2B9A-4140-A7BF-74921B8C5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E6695-117F-493C-9A16-1A3161FC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BEDB7-024A-4EF8-8733-29A8D7BC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71E28-B8C2-463E-93E3-E3412A41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1C76-F34D-41E9-B21B-4044132D140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E4E2-0ED0-47DE-9CFC-FBBE9C57BAC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A352-0794-44B1-B518-BD6AE8BC297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A160-351E-404D-A6BA-9817C9C92F7D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0CCB-443C-4F82-94CE-44C061910B84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A9DC-E5F6-43C5-8FFE-F1BC700E7F2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7532-6FAB-4A9A-9FBD-958A0ADB909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D9A5-AE61-482F-81AF-449DD0D621D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8AEE-A07A-4139-814B-3B8964909AF5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200" y="85860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152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960" y="74268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800" y="73008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7FFE-A099-4545-8921-072555600E21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0E62-88FE-4FFA-8534-5DD30039C25B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3716-42AC-4044-9246-B24246EA7509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6750-B06A-4511-A797-D0306F0F1C6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BAA6-8A5A-401F-B97D-A321A9B8CA41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2EBC-B8E1-4417-967A-34C32EE78E2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9D56-6935-46F8-9259-2A415158DB75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947F-31C1-4A5B-BCFF-5406DC1F38E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7102-5534-4A7F-B088-854F27CD1B7D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8851-B89D-4E02-91ED-0038D41C6D1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A814-9FAC-426F-A031-812F29C3C8FB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E1B4-0DE1-4520-A678-0A8EFF8235AC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A1F1-8831-43A7-80AE-B82845FB29DC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BC7D-3D02-4177-A413-CC4331DAFB3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7C17-78B2-450E-910F-E004808C071A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9D14-FB50-4B7C-AB10-C0F1A1BB1A97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9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9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5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8855280" cy="59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Zasady kontraktowania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2400" spc="-1" strike="noStrike" u="sng">
                <a:solidFill>
                  <a:srgbClr val="ffffff"/>
                </a:solidFill>
                <a:uFillTx/>
                <a:latin typeface="Candara"/>
              </a:rPr>
              <a:t>w rodzaju</a:t>
            </a: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: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br>
              <a:rPr sz="2400"/>
            </a:br>
            <a:br>
              <a:rPr sz="2200"/>
            </a:br>
            <a:br>
              <a:rPr sz="22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- </a:t>
            </a:r>
            <a:r>
              <a:rPr b="0" lang="pl-PL" sz="4000" spc="-1" strike="noStrike">
                <a:solidFill>
                  <a:srgbClr val="ff0000"/>
                </a:solidFill>
                <a:latin typeface="Candara"/>
              </a:rPr>
              <a:t>aspekty merytoryczne</a:t>
            </a:r>
            <a:br>
              <a:rPr sz="2200"/>
            </a:br>
            <a:br>
              <a:rPr sz="2200"/>
            </a:br>
            <a:br>
              <a:rPr sz="22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ymagane umowy podwykonawcze n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badania diagnostycz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badania laboratoryjne w tym mikrobiologiczn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-   transport sanitarn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72880" y="2205000"/>
            <a:ext cx="9360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gwarantowane udzielane w 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warunkach domowych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ealizowane są w ramach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espołu długoterminowej opieki domowej dla pacjentów wentylowanych mechanicznie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espołu długoterminowej opieki domowej dla dzieci wentylowanych mechanicznie,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ielęgniarskiej opieki długoterminowej domowej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F80C-0F51-40F8-A51F-61EB70D9F44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95000" y="1599840"/>
            <a:ext cx="84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Wymagane warunki do realizacji gwarantowanych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ałącznik nr 4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arunki realizacji świadczeń gwarantowanych </a:t>
            </a:r>
            <a:br>
              <a:rPr sz="2800"/>
            </a:b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 zakresu świadczeń pielęgnacyjnych i opiekuńczych w ramach opieki długoterminow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0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8751-899F-4CAE-9B1F-ED22E38019E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495000" y="1599840"/>
            <a:ext cx="84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magania dotyczą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liczby i kwalifikacji personelu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sprzętu medycznego i pomocniczego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arunków lokalowych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innych warunków udzielania świadczeń gwarantowanych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3" name="Symbol zastępczy numeru slajdu 2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3602-5D9A-45E9-8F46-FA37AE380D9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w zakładzie pielęgnacyjno-opiekuńczym/opiekuńczo-leczniczym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A60C-1E35-4E15-9E6D-0869403B9F6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849240" y="1628640"/>
          <a:ext cx="7991640" cy="446436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879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etat przeliczeniowy na 35 łóżek (równoważnik 1 etatu przeliczeniowego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 etaty na 35 łóżek (równoważnik 2 etatów przeliczeniowych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128520" y="1484280"/>
            <a:ext cx="9577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7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b87d6"/>
                </a:solidFill>
                <a:latin typeface="Candara"/>
              </a:rPr>
              <a:t>Personel – wymagania, lekarze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Przy zakresie obowiązków obejmującym badanie pacjentów nie mniej niż 2 razy w tygodniu i porady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na wezwanie w razie potrzeby – udziela świadczeń w łącznym wymiarze </a:t>
            </a:r>
            <a:r>
              <a:rPr b="1" lang="pl-PL" sz="1600" spc="-1" strike="noStrike" u="sng">
                <a:solidFill>
                  <a:srgbClr val="ff0000"/>
                </a:solidFill>
                <a:uFillTx/>
                <a:latin typeface="Candara"/>
              </a:rPr>
              <a:t>1 etatu przeliczeniowego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0000"/>
                </a:solidFill>
                <a:uFillTx/>
                <a:latin typeface="Candara"/>
              </a:rPr>
              <a:t>na 35 łóżek (równoważnik 1 etatu przeliczeniowego na 35 łóżek</a:t>
            </a:r>
            <a:r>
              <a:rPr b="1" lang="pl-PL" sz="1600" spc="-1" strike="noStrike">
                <a:solidFill>
                  <a:srgbClr val="ff0000"/>
                </a:solidFill>
                <a:latin typeface="Candara"/>
              </a:rPr>
              <a:t>)</a:t>
            </a: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, przy czym w wymiarze tym </a:t>
            </a: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uwzględnia się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cząstkowe etaty przeliczeniowe lekarza specjalisty w dziedzinie: chorób wewnętrznych lub medycyny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rodzinnej, lub medycyny ogólnej, lub chirurgii ogólnej, lub geriatrii, lub gerontologii</a:t>
            </a: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 oraz </a:t>
            </a: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zapewnia się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konsultację specjalistyczną przez co najmniej lekarza specjalistę psychiatrii oraz neurologii lub cząstkowe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73e87"/>
                </a:solidFill>
                <a:uFillTx/>
                <a:latin typeface="Candara"/>
              </a:rPr>
              <a:t>etaty przeliczeniowe</a:t>
            </a: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: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1) lekarza ze specjalizacją I stopnia w dziedzinie: chorób wewnętrznych lub medycyny ogólnej, lub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geriatrii, neurologii, psychiatrii, lub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2) lekarza w trakcie specjalizacji z dziedziny: chorób wewnętrznych lub medycyny rodzinnej, lub geriatrii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neurologii, psychiatrii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(aktualna ocena pacjenta, dokonywana nie mniej niż dwa razy w tygodniu, potwierdzana jest datą, pieczątką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73e87"/>
                </a:solidFill>
                <a:latin typeface="Candara"/>
              </a:rPr>
              <a:t>i podpisem osoby przeprowadzającej badania kontrolne)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0ECF-D65E-4B5B-8F3B-6BB170A83F3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b87d6"/>
                </a:solidFill>
                <a:latin typeface="Candara"/>
              </a:rPr>
              <a:t>Personel – wymagania, pielęgniarki : kwalifikacje</a:t>
            </a:r>
            <a:endParaRPr b="0" lang="en-US" sz="23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Z ukończoną specjalizacją, kursem kwalifikacyjnym lub w trakcie odbywania tych specjalizacji lub kursów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1) w dziedzinie opieki długoterminowej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2) w dziedzinie pielęgniarstwa przewlekle chorych i niepełnosprawnych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3) w dziedzinie pielęgniarstwa zachowawcz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4) w dziedzinie pielęgniarstwa rodzinn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5) w dziedzinie pielęgniarstwa środowiskow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6) w dziedzinie pielęgniarstwa środowiskowo-rodzinn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7) w dziedzinie pielęgniarstwa geriatrycznego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8) w dziedzinie pielęgniarstwa opieki paliatywnej, lub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73e87"/>
                </a:solidFill>
                <a:latin typeface="Candara"/>
              </a:rPr>
              <a:t>9) specjalistycznych w zakresie opieki paliatywnej, lub w trakcie odbywania tych kursów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1800" spc="-1" strike="noStrike">
                <a:solidFill>
                  <a:srgbClr val="ff0000"/>
                </a:solidFill>
                <a:latin typeface="Candara"/>
              </a:rPr>
              <a:t>łącznie 25% czasu pracy ogółu pielęgniarek udzielających świadczeń u danego świadczeniodawcy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3341-8E2E-4E31-A146-33B3FE45773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osoba, która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a) rozpoczęła po dniu 30 września 2012 r. studia wyższe z zakresu fizjoterapii obejmujące co najmniej 2435 godzin kształcenia w zakresie fizjoterapii i uzyskała tytuł licencjata lub dodatkowo co najmniej 1440 godzin kształcenia w zakresie fizjoterapii i uzyskała tytuł magistra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b) rozpoczęła po dniu 31 grudnia 1997 r. studia wyższe na kierunku fizjoterapia zgodnie ze standardami kształcenia określonymi w odrębnych przepisach i uzyskała tytuł licencjata lub magistra na tym kierunku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c) rozpoczęła przed dniem 1 stycznia 1998 r. studia wyższe na kierunku rehabilitacja ruchowa i uzyskała tytuł magistra na tym kierunku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d) rozpoczęła przed dniem 1 stycznia 1998 r. studia wyższe w Akademii Wychowania Fizycznego i uzyskała tytuł magistra oraz ukończyła specjalizację I lub II stopnia w dziedzinie rehabilitacji ruchowej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e) rozpoczęła przed dniem 1 stycznia 1980 r. studia wyższe na kierunku wychowanie fizyczne i uzyskała tytuł magistra na tym kierunku oraz ukończyła w ramach studiów dwuletnią specjalizację z zakresu gimnastyki leczniczej lub rehabilitacji ruchowej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f) rozpoczęła przed dniem 1 stycznia 1980 r. studia wyższe na kierunku wychowanie fizyczne i uzyskała tytuł magistra na tym kierunku oraz ukończyła trzymiesięczny kurs specjalizacyjny z rehabilitacji, lub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g) ukończyła szkołę policealną publiczną lub niepubliczną o uprawnieniach szkoły publicznej i uzyskała tytuł zawodowy technik fizjoterapii, zwana dalej „osobą prowadzącą fizjoterapię”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1400" spc="-1" strike="noStrike" u="sng">
                <a:solidFill>
                  <a:srgbClr val="ff0000"/>
                </a:solidFill>
                <a:uFillTx/>
                <a:latin typeface="Candara"/>
              </a:rPr>
              <a:t>udziela świadczeń w łącznym wymiarze 2 etatów przeliczeniowych na 35 łóżek (równoważnik 2 etatów przeliczeniowych na 35 łóżek),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73e87"/>
                </a:solidFill>
                <a:latin typeface="Candara"/>
              </a:rPr>
              <a:t>–– </a:t>
            </a:r>
            <a:r>
              <a:rPr b="1" lang="pl-PL" sz="1400" spc="-1" strike="noStrike">
                <a:solidFill>
                  <a:srgbClr val="073e87"/>
                </a:solidFill>
                <a:latin typeface="Candara"/>
              </a:rPr>
              <a:t>w zakładach opiekuńczych dla świadczeniobiorców będących w stanie wegetatywnym (którzy nie są </a:t>
            </a:r>
            <a:br>
              <a:rPr sz="1400"/>
            </a:br>
            <a:r>
              <a:rPr b="1" lang="pl-PL" sz="1400" spc="-1" strike="noStrike">
                <a:solidFill>
                  <a:srgbClr val="073e87"/>
                </a:solidFill>
                <a:latin typeface="Candara"/>
              </a:rPr>
              <a:t>w stanie przełykać i są karmieni przez zgłębnik lub gastrostomię lub jejunostomię lub pozajelitowo),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106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73e87"/>
                </a:solidFill>
                <a:latin typeface="Candara"/>
              </a:rPr>
              <a:t>a którzy w ocenie skalą Barthel otrzymali „0” punktów – udziela świadczeń w łącznym wymiarze ¼ etatu przeliczeniowego na 1 łóżko (równoważnik ¼ etatu przeliczeniowego na 1 łóżko)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D05E-E43D-4FCF-8C67-20A1F456F20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osoba, któr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psycholog lub psycholog posiadający tytuł specjalisty w dziedzinie psychologii klinicznej – udziela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świadczeń w łącznym wymiarze 1/2 etatu przeliczeniowego na 35 łóżek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osoba, która: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a) rozpoczęła po dniu 30 września 2012 r. i ukończyła studia wyższe w zakresie logopedii, obejmujące co najmniej 800 godzin kształcenia w zakresie logopedii i uzyskała tytuł magistra, lub ukończyła studia wyższe i uzyskała tytuł magistra oraz ukończyła studia podyplomowe z logopedii obejmujące co najmniej 600 godzin kształcenia w zakresie logopedii,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b) rozpoczęła po dniu 31 grudnia 1998 r. i ukończyła studia wyższe na kierunku albo w specjalności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logopedia obejmujące co najmniej 800 godzin kształcenia w zakresie logopedii i uzyskała tytuł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licencjata lub magistra na tym kierunku,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c) rozpoczęła po dniu 31 grudnia 1998 r. i ukończyła studia wyższe i uzyskała tytuł magistra oraz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ukończyła studia podyplomowe z logopedii obejmujące co najmniej 600 godzin kształcenia w zakresie logopedii,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) rozpoczęła przed dniem 31 grudnia 1998 r. i ukończyła studia wyższe i uzyskała tytuł magistra oraz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072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ukończyła studia podyplomowe z logopedii, zwana dalej „logopedą”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1E68-2D3C-472F-96D1-B7949B2C0F4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Candara"/>
              </a:rPr>
              <a:t>Wymagania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EBBB-F65E-4DB8-8600-8C94EE5F243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osoba, która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a) ukończyła studia wyższe na kierunku lub w specjalności terapia zajęciowa, obejmujące co najmniej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3000 godzin kształcenia, w tym 2000 godzin w grupie treści podstawowych i kierunkowych obejmujących wiedzę z zakresu teorii i technik terapeutycznych i uzyskała tytuł licencjata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b) ukończyła szkołę policealną publiczną lub niepubliczną o uprawnieniach szkoły publicznej i uzyskała tytuł zawodowy terapeuty zajęciowego lub dyplom potwierdzający kwalifikacje zawodowe w zawodzie terapeuty zajęciowego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c) ukończyła przed dniem wejścia w życie rozporządzenia szkołę policealną publiczną lub niepubliczną </a:t>
            </a:r>
            <a:br>
              <a:rPr sz="1500"/>
            </a:b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o uprawnieniach szkoły publicznej i uzyskała tytuł zawodowy w zawodzie instruktor terapii zajęciowej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) ukończyła przed dniem 1 października 2011 r. studia wyższe w specjalności terapia zajęciowa, obejmujące co najmniej 1665 godzin kształcenia przygotowującego do wykonywania zawodu terapeuty zajęciowego i uzyskała tytuł licencjata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e) rozpoczęła po dniu 30 sierpnia 2012 r. studia wyższe w zakresie terapii zajęciowej, obejmujące co najmniej 2000 godzin w grupie treści podstawowych i kierunkowych obejmujących wiedzę z zakresu teorii i technik terapeutycznych i uzyskała co najmniej tytuł licencjata, zwana dalej „terapeutą zajęciowym”;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1500" spc="-1" strike="noStrike" u="sng">
                <a:solidFill>
                  <a:srgbClr val="073e87"/>
                </a:solidFill>
                <a:uFillTx/>
                <a:latin typeface="Candara"/>
              </a:rPr>
              <a:t>udziela świadczeń w łącznym wymiarze 1/2 etatu przeliczeniowego na 35 pacjentów uczestniczących w terapii w ciągu tygodnia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ACD6-30C6-4140-9233-543FCAF9B0D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95360" y="1341000"/>
            <a:ext cx="8254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b87d6"/>
                </a:solidFill>
                <a:latin typeface="Candara"/>
              </a:rPr>
              <a:t>Personel pozostały – wymagania, kwalifikacj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opuszcza się możliwość realizacji świadczeń przez osobę, która: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a) rozpoczęła przed dniem 1 września 2012 r. i ukończyła zasadniczą szkołę zawodową publiczną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niepubliczną o uprawnieniach szkoły publicznej lub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b) rozpoczęła po dniu 31 sierpnia 2012 r. i ukończyła kwalifikacyjny kurs zawodowy lub ukończyła szkołę policealną publiczną lub niepubliczną o uprawnieniach szkoły publicznej i uzyskała dyplom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potwierdzający kwalifikacje zawodowe w zawodzie opiekun medyczny, posiadająca kwalifikacje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do wykonywania czynności w zakresie podstawowej pielęgnacji chorych i osób niesamodzielnych,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73e87"/>
                </a:solidFill>
                <a:latin typeface="Candara"/>
              </a:rPr>
              <a:t>zwaną dalej „opiekunem medycznym”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6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E332-E416-44EC-9ED7-B569CE3743DE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715A-FEB3-4D89-9A67-7D3BEE145A2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9" name=""/>
          <p:cNvGraphicFramePr/>
          <p:nvPr/>
        </p:nvGraphicFramePr>
        <p:xfrm>
          <a:off x="415800" y="907920"/>
          <a:ext cx="9001080" cy="4721400"/>
        </p:xfrm>
        <a:graphic>
          <a:graphicData uri="http://schemas.openxmlformats.org/drawingml/2006/table">
            <a:tbl>
              <a:tblPr/>
              <a:tblGrid>
                <a:gridCol w="3589560"/>
                <a:gridCol w="2728800"/>
                <a:gridCol w="2682720"/>
              </a:tblGrid>
              <a:tr h="3333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5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dodatkowy sprzęt medyczny i pomocniczy dla świadczeniobiorców w stanie wegetatywnym, którzy w ocenie skalą Barthel otrzymali „0” punktów, znajdujący się w miejscu udzielania świadcze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zestaw z jednorazowym sprzętem do pielęgnacji tracheostomii, gastrostomii, konikotomi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samorozprężalny worek oddechowy z zastawką jednokierunkową i maską twarzow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ff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992160" y="2771640"/>
          <a:ext cx="7921800" cy="202572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0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gabinet rehabilitacyjny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do prowadzenia psychoterapii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terapii zajęciowej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sala dziennego pobytu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944280" y="2349000"/>
            <a:ext cx="80262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w zakładzie pielęgnacyjno-opiekuńczym/opiekuńczo-leczniczym dla dzieci i młodzieży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4E10-BDDE-475A-A588-8012C985EC9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849240" y="1268280"/>
          <a:ext cx="7991640" cy="38894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76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la dzieci i młodzież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etat przeliczeniowy na 35 łóżek (równoważnik 1 etatu przeliczeniowego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 etaty przeliczeniowe na 35 łóżek (równoważnik 2 etatów przeliczeniowych na 35 łóżek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450C-A8F1-41D5-BA2C-D2384973397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415800" y="907920"/>
          <a:ext cx="9001080" cy="4111920"/>
        </p:xfrm>
        <a:graphic>
          <a:graphicData uri="http://schemas.openxmlformats.org/drawingml/2006/table">
            <a:tbl>
              <a:tblPr/>
              <a:tblGrid>
                <a:gridCol w="3589560"/>
                <a:gridCol w="2728800"/>
                <a:gridCol w="2682720"/>
              </a:tblGrid>
              <a:tr h="3333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la dzieci i młodzież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5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7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992160" y="2771640"/>
          <a:ext cx="7921800" cy="2025720"/>
        </p:xfrm>
        <a:graphic>
          <a:graphicData uri="http://schemas.openxmlformats.org/drawingml/2006/table">
            <a:tbl>
              <a:tblPr/>
              <a:tblGrid>
                <a:gridCol w="7921800"/>
              </a:tblGrid>
              <a:tr h="90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gabinet rehabilitacyjny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do prowadzenia psychoterapii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terapii zajęciowej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sala dziennego pobytu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w zakładzie pielęgnacyjno-opiekuńczym/opiekuńczo-leczniczym </a:t>
            </a:r>
            <a:br>
              <a:rPr sz="3200"/>
            </a:b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dla pacjentów wentylowanych mechaniczni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2E67-70BF-4580-A3FF-A7C2E80325C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849240" y="1268280"/>
          <a:ext cx="7991640" cy="38894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76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la pacjentów wentylowanych mechanicz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8 etatu przeliczeniowego na 1 łóżko (równoważnik 1/8 etatu przeliczeniowego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4 etatu przeliczeniowego na 1 łóżko (równoważnik 1/4 etatu przeliczeniowego               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1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Obwieszczenie Ministra Zdrowia z dnia 22 września 2015 r. w sprawie ogłoszenia jednolitego tekstu rozporządzenia Ministra Zdrowia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w sprawie świadczeń gwarantowanych z zakresu świadczeń pielęgnacyjnych i opiekuńczych w ramach opieki długoterminowej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(Dz. U. z 2015 r., Nr  1658 )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499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4a8a4"/>
                </a:solidFill>
                <a:latin typeface="Candara"/>
              </a:rPr>
              <a:t>wykaz gwarantowanych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4a8a4"/>
                </a:solidFill>
                <a:latin typeface="Candara"/>
              </a:rPr>
              <a:t>wymagane warunki do ich realizacji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B1D1-B618-427F-9F8F-631E856AAC5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405E-8437-4643-8131-D605E1B0033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9" name=""/>
          <p:cNvGraphicFramePr/>
          <p:nvPr/>
        </p:nvGraphicFramePr>
        <p:xfrm>
          <a:off x="488880" y="981000"/>
          <a:ext cx="8856720" cy="4713480"/>
        </p:xfrm>
        <a:graphic>
          <a:graphicData uri="http://schemas.openxmlformats.org/drawingml/2006/table">
            <a:tbl>
              <a:tblPr/>
              <a:tblGrid>
                <a:gridCol w="3532320"/>
                <a:gridCol w="2684520"/>
                <a:gridCol w="2639880"/>
              </a:tblGrid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orosłych, dzieci wentylowanych mechanicznie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078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respirator  wyposażony w: – akumulator pozwalający na: –  swobodne korzystanie z wózka inwalidzkiego, – podtrzymanie czynności respiratora do 4 godzin, – filtry powietrza w układzie, – komplet parametrów nastawnych, – 2 alarmy: rozłączenia układu i nadmiernego ciśnienia w drogach oddechowyc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każdego świadczeniobior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, stanowiący własność świadczeniodaw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świadczeniobiorcy z dodatkowym wyposażeniem jednorazowym (cewniki, łączniki) oraz ssak rezerw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efibrylat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z jednorazowym sprzętem do pielęgnacji tracheostomii, gastrostomi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920880" y="2143080"/>
          <a:ext cx="7993080" cy="29415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67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23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sale 1-2 łóżkowe z bezpośrednim sąsiedztwem łazienki i dostępem do wyłącznika światła dla pacjenta; w zakładach opiekuńczych dla dzieci i młodzieży do ukończenia 18. roku życia: sale 1-2 łóżkowe z zapewnieniem dostępu do łóżka z trzech stron i swobodnego korzystania ze sprzętu pielęgnacyjnego, rehabilitacyjnego i wspomagając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lekarski i zabiegowo-pielęgniarski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rehabilitacyjny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akumulatorowe źródło światła aktywowane w przypadku awarii prądu, alternatywne źródło zasilania elektrycznego – generator prądu, słyszalny alarm respiratora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Świadczenia w zakładzie pielęgnacyjno-opiekuńczym/opiekuńczo-leczniczym dla dzieci wentylowanych mechaniczni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C7AC-1F11-4B39-ACED-CC34DE28F9B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6" name=""/>
          <p:cNvGraphicFramePr/>
          <p:nvPr/>
        </p:nvGraphicFramePr>
        <p:xfrm>
          <a:off x="849240" y="1268280"/>
          <a:ext cx="7991640" cy="38894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766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           dla dzieci wentylowanych mechanicz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8 etatu przeliczeniowego na 1 łóżko (równoważnik 1/8 etatu przeliczeniowego </a:t>
                      </a:r>
                      <a:br>
                        <a:rPr sz="1100"/>
                      </a:b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4 etatu przeliczeniowego na 1 łóżko (równoważnik 1/4 etatu przeliczeniowego               na 1 łóżk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sycholod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łóże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ogopedz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terapeuci zajęcio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/2 etatu przeliczeniowego na 35 pacjentów uczestniczących w terap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opiekunowie medycz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 - dopuszcza się możliwość udzielania świadcze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B3AD-0438-47BE-90E9-52CC1ABE303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488880" y="981000"/>
          <a:ext cx="8856720" cy="4713480"/>
        </p:xfrm>
        <a:graphic>
          <a:graphicData uri="http://schemas.openxmlformats.org/drawingml/2006/table">
            <a:tbl>
              <a:tblPr/>
              <a:tblGrid>
                <a:gridCol w="3532320"/>
                <a:gridCol w="2684520"/>
                <a:gridCol w="2639880"/>
              </a:tblGrid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w zakładzie pielęgnacyjno-opiekuńczym/opiekuńczo-leczniczym dorosłych, dzieci wentylowanych mechanicznie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078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łóżka szpitalne o regulowanej wysokości i wyposażone w ruchome barierki zabezpieczające przed wypadnięciem lub zawierające oprzyrządowanie do rehabilit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g wykazanej liczby łóżek w oświadczeni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zapobiegający powstawaniu odleżyn: materace przeciwodleżynowe, poduszki, podpórki, wałki,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ułatwiający pielęgnację świadczeniobiorcy: zintegrowany system do higieny ciała, podnośnik, parawany, pasy ślizgowe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rehabilitacyjnego: UGUL, cykloergometr, rotory, materace, drabinki, poręcz do nauki chodzenia, zestaw do elektroterapii z osprzętem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yposażenie gabinetu terapii zajęciowej: stoły do terapii zajęciowej, przybory do malowania i wyklejania, sprzęt do muzykoterapii, sprzęt do gier i zabaw, tablice do pisania, sprzęt audiowizualny, system haseł obrazkowo-tekstowych, sprzęt do nauki czynności życia codziennego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oncentrator tlenu lub inne źródło tlenu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inhalato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sztuka na każde rozpoczęte 17 łóż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glukometr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y do pomiaru ciśnienia tętniczego krw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reanimacj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kule, laski, balkoniki, chodziki, wózki inwalidzkie, również z podparciem gł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ompy infuzyjn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tetoskop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respirator  wyposażony w: – akumulator pozwalający na: –  swobodne korzystanie z wózka inwalidzkiego, – podtrzymanie czynności respiratora do 4 godzin, – filtry powietrza w układzie, – komplet parametrów nastawnych, – 2 alarmy: rozłączenia układu i nadmiernego ciśnienia w drogach oddechowyc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każdego świadczeniobior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, stanowiący własność świadczeniodawc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świadczeniobiorcy z dodatkowym wyposażeniem jednorazowym (cewniki, łączniki) oraz ssak rezerwow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efibrylat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z jednorazowym sprzętem do pielęgnacji tracheostomii, gastrostomi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aparat EK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6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budynku lub zespole budynków oznaczonych tym samym adresem, w którym lub w których jest zlokalizowane miejsce udzielania świadczeń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931" name=""/>
          <p:cNvGraphicFramePr/>
          <p:nvPr/>
        </p:nvGraphicFramePr>
        <p:xfrm>
          <a:off x="920880" y="2143080"/>
          <a:ext cx="7993080" cy="294156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676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23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sale 1-2 łóżkowe z bezpośrednim sąsiedztwem łazienki i dostępem do wyłącznika światła dla pacjenta; w zakładach opiekuńczych dla dzieci i młodzieży do ukończenia 18. roku życia: sale 1-2 łóżkowe z zapewnieniem dostępu do łóżka z trzech stron i swobodnego korzystania ze sprzętu pielęgnacyjnego, rehabilitacyjnego i wspomagając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gabinet lekarski i zabiegowo-pielęgniarski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3) gabinet rehabilitacyjny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4) akumulatorowe źródło światła aktywowane w przypadku awarii prądu, alternatywne źródło zasilania elektrycznego – generator prądu, słyszalny alarm respiratora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Świadczenia zespołu długoterminowej opieki domowej dla dorosłych i dzieci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wentylowanych mechaniczni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5440" y="333000"/>
            <a:ext cx="8915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5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B93F-4415-48F6-BA68-ABF0B510614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6" name=""/>
          <p:cNvGraphicFramePr/>
          <p:nvPr/>
        </p:nvGraphicFramePr>
        <p:xfrm>
          <a:off x="849240" y="1413000"/>
          <a:ext cx="7991640" cy="295272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579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zespołu długoterminowej opieki domowej dla dorosłych i dzieci wentylowanych mechanicz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93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lekar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fizjoterapeu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ie wskazano paryte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8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9883-A3C3-404A-8480-7748DCA88FF0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9" name=""/>
          <p:cNvGraphicFramePr/>
          <p:nvPr/>
        </p:nvGraphicFramePr>
        <p:xfrm>
          <a:off x="560520" y="1417680"/>
          <a:ext cx="8713800" cy="4387680"/>
        </p:xfrm>
        <a:graphic>
          <a:graphicData uri="http://schemas.openxmlformats.org/drawingml/2006/table">
            <a:tbl>
              <a:tblPr/>
              <a:tblGrid>
                <a:gridCol w="3475080"/>
                <a:gridCol w="2641320"/>
                <a:gridCol w="2597400"/>
              </a:tblGrid>
              <a:tr h="4413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medyczny i pomocnicz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Świadczenia zespołu długoterminowej opieki domowej dla dorosłych, dzieci i młodzieży wentylowanych mechaniczni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uwa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8398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 </a:t>
                      </a: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respirator wyposażony w: – akumulator pozwalający na: – –  swobodne korzystanie z wózka inwalidzkiego, – –  podtrzymanie czynności respiratora do 4 godzin, – filtry powietrza w układzie, – komplet parametrów nastawnych, – 2 alarmy: rozłączenia układu i nadmiernego ciśnienia w drogach oddechowych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dla każdego świadczeniobior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sak elektryczny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ależnie od potrzeb pacjen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pielęgnacji tracheostomi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ależnie od potrzeb pacjen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niezbędny do obsługi respiratora, w tym jednorazowego uży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pobytu świadczeniobiorcy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ulsoksyme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amorozprężalny worek oddechowy z zastawką jednokierunkową i maską twarzow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rzenośny aparat EK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udzielania świadcze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zestaw do udzielania pierwszej pomocy lekarskie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udzielania świadcze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1400"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eseser pielęgniarski wyposażony w: –  podstawowy sprzęt i materiały jednorazowego użytku, w tym zestaw do wykonania iniekcji, przetaczania płynów infuzyjnych, zestaw do wykonywania opatrunków, zestaw podstawowych narzędzi chirurgicznych, pakiet ochronny, – zestaw do założenia i usunięcia zgłębnika oraz do karmienia przez zgłębnik, stomię, – zestaw do karmienia przez przetokę i pielęgnacji przetoki, – zestaw do założenia, płukania i usunięcia cewnika, – pakiet do dezynfekcji, – zestaw przeciwwstrząsowy, – glukometr, – termometr, – aparat do pomiaru ciśnienia krwi, – zestaw do wykonywania zabiegów i czynności higieniczno-pielęgnacyjnych, – środki ochrony osobistej: fartuchy, maseczki, rękawice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la każdej pielęgniarki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8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 miejscu udzielania świadcze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1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D7BB-2E4D-4807-97CF-DF78C53D120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992160" y="2752560"/>
          <a:ext cx="7777080" cy="218916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955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93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pomieszczenie przystosowane do celów biurowych oraz do przechowywania leków, materiałów opatrunkowych i sprzętu medyczn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zapewnienie kontaktu telefoniczneg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kaz gwarantowanych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Świadczenia gwarantowane są realizowane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warunkach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)  stacjonarnych;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)  domowych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7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E428-1D52-4B80-98DF-B362774D852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944280" y="1989000"/>
            <a:ext cx="80262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opieka w domu świadczeniobiorcy wymagającego stosowania inwazyjnej wentylacji mechanicznej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a)  porady lekarskie w domu świadczeniobiorcy nie mniej niż 1 raz w tygodniu – dla każdego świadczeniobiorcy oraz stała dostępność w systemie zmianowym albo dyżurowym pod telefonem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)  wizyty pielęgniarskie nie mniej niż 2 razy w tygodniu – dla każdego świadczeniobiorcy oraz stała dostępność w systemie zmianowym albo dyżurowym pod telefonem, c)  wizyty osoby prowadzącej fizjoterapię, nie mniej niż 2 razy w tygodniu – dla każdego świadczeniobiorcy (maksymalna częstotliwość i ogólna liczba wizyt domowych, o których mowa w lit. b i c, jest ustalana indywidualnie przez lekarza udzielającego świadczeniobiorcy świadczeń gwarantowanych)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 c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2) opieka w domu świadczeniobiorcy wymagającego stosowania nieinwazyjnej wentylacji mechanicznej, w przypadku świadczeniobiorców wentylowanych powyżej 16 godzin na dobę, w przypadku świadczeniobiorców z przewlekłą niewydolnością oddechową na podłożu chorób nerwowo-mięśniowych oraz w przypadku dzieci i młodzieży do ukończenia 18. roku życia bez względu na czas trwania nieinwazyjnej wentylacji mechanicznej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porady lekarskie nie mniej niż 1 raz w tygodniu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)  wizyty pielęgniarskie nie mniej niż 2 razy w tygodniu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c)  wizyty osoby prowadzącej fizjoterapię, nie mniej niż 2 razy w tygodniu – dla każdego świadczeniobiorcy (maksymalna częstotliwość i ogólna liczba wizyt domowych, o których mowa w lit. b i c, jest ustalana indywidualnie przez lekarza udzielającego świadczeniobiorcy świadczeń gwarantowanych)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 c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3) opieka w domu świadczeniobiorcy wymagającego stosowania nieinwazyjnej wentylacji mechanicznej, w przypadku świadczeniobiorców wentylowanych od 8 do 16 godzin na dobę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porady lekarskie nie mniej niż 1 raz na 2 tygodnie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wizyty pielęgniarskie nie mniej niż 1 raz w tygodniu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c)  wizyty osoby prowadzącej fizjoterapię, nie mniej niż 2 razy w tygodniu – dla każdego świadczeniobiorcy (maksymalna częstotliwość i ogólna liczba wizyt domowych, o których mowa w lit b i c, jest ustalana indywidualnie przez lekarza udzielającego świadczeniobiorcy świadczeń gwarantowanych)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944280" y="1844280"/>
            <a:ext cx="80262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 c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4) opieka w domu świadczeniobiorcy wymagającego stosowania nieinwazyjnej wentylacji mechanicznej, w przypadku świadczeniobiorców wentylowanych poniżej 8 godzin na dobę: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Candar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porady lekarskie nie mniej niż 1 raz na kwartał – dla każdego świadczeniobiorcy oraz stała dostępność w systemie zmianowym albo dyżurowym pod telefonem,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b)  wizyty pielęgniarskie nie mniej niż 1 raz na kwartał – dla każdego świadczeniobiorcy oraz stała dostępność w systemie zmianowym albo dyżurowym pod telefonem (maksymalna częstotliwość i ogólna liczba wizyt domowych, o których mowa w lit b, jest ustalana indywidualnie przez lekarza udzielającego świadczeniobiorcy świadczeń gwarantowanych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b87d6"/>
                </a:solidFill>
                <a:latin typeface="Times New Roman"/>
              </a:rPr>
              <a:t>Pielęgniarska opieka długoterminowa domow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4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6F81-C633-4495-9582-E1E0AA40E166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849240" y="1989000"/>
          <a:ext cx="7991640" cy="1295640"/>
        </p:xfrm>
        <a:graphic>
          <a:graphicData uri="http://schemas.openxmlformats.org/drawingml/2006/table">
            <a:tbl>
              <a:tblPr/>
              <a:tblGrid>
                <a:gridCol w="2781360"/>
                <a:gridCol w="5210280"/>
              </a:tblGrid>
              <a:tr h="698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erso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ska opieka długoterminowa domow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96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 etat na 6 pacjentów pod różnymi adresami lub 12 pacjentów pod tym samym adres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B0B4-9945-4791-8CDC-F47E46B69FBA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992160" y="1646280"/>
          <a:ext cx="7777080" cy="3565440"/>
        </p:xfrm>
        <a:graphic>
          <a:graphicData uri="http://schemas.openxmlformats.org/drawingml/2006/table">
            <a:tbl>
              <a:tblPr/>
              <a:tblGrid>
                <a:gridCol w="4417920"/>
                <a:gridCol w="3359160"/>
              </a:tblGrid>
              <a:tr h="569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Sprzęt medyczny i pomocnicz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Pielęgniarska opieka długoterminowa domow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995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Neseser pielęgniarski  wyposażony w: 1) podstawowy sprzęt i materiały jednorazowego użytku, w tym zestaw do wykonania iniekcji, przetaczania płynów infuzyjnych, zestaw do wykonywania opatrunków, zestaw podstawowych narzędzi chirurgicznych, pakiet ochronny; 2) zestaw do założenia i usunięcia zgłębnika oraz do karmienia przez zgłębnik, stomię; 3) zestaw do karmienia przez przetokę i pielęgnacji przetoki; 4) zestaw do założenia, płukania i usunięcia cewnika; 5) pakiet do odkażania i dezynfekcji; 6) zestaw do pielęgnacji tracheostomii; 7) zestaw przeciwwstrząsowy; 8) maseczka twarzowa do prowadzenia oddechu zastępczego; 9) glukometr; 10) termometr; 11) zestaw do wykonywania zabiegów i czynności higieniczno-pielęgnacyjnych; 12) środki ochrony osobistej: fartuchy, maseczki, rękawice; 13) aparat do pomiaru ciśnienia krwi; 14) stetoskop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dla każdej pielęgniar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31440" y="115560"/>
            <a:ext cx="8255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2000" spc="-1" strike="noStrike">
                <a:solidFill>
                  <a:srgbClr val="ffffff"/>
                </a:solidFill>
                <a:latin typeface="Candara"/>
              </a:rPr>
              <a:t>ŚWIADCZENIA PIELĘGNACYJNE I OPIEKUŃCZE  W RAMACH OPIEKI DŁUGOTERMINOWEJ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EBB2-3524-491E-936F-52F2CDBF4C7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1" name=""/>
          <p:cNvGraphicFramePr/>
          <p:nvPr/>
        </p:nvGraphicFramePr>
        <p:xfrm>
          <a:off x="776160" y="2752560"/>
          <a:ext cx="8353440" cy="204480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892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Warunki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87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1) pomieszczenie przystosowane do celów biurowych oraz do przechowywania leków, materiałów opatrunkowych i sprzętu medycznego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zcionka tekstu podstawowego"/>
                        </a:rPr>
                        <a:t>2) zapewnienie kontaktu telefoniczneg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944280" y="1989000"/>
            <a:ext cx="80262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862aa"/>
                </a:solidFill>
                <a:latin typeface="Candara"/>
              </a:rPr>
              <a:t>Inne warunki udzielania świadczeń gwarantowanych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dostępność od poniedziałku do piątku w godzinach od 800 do 2000;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2)   dostępność w soboty i dni ustawowo wolne od pracy – w medycznie uzasadnionych przypadkach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)   wizyty – nie mniej niż 4 razy w tygodniu;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4)   liczba świadczeniobiorców objętych opieką, przebywających pod różnymi adresami zamieszkania – równoważnik 1 etatu przeliczeniowego – pielęgniarka nie może jednoczasowo opiekować się więcej niż 6 świadczeniobiorcami;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5)   liczba świadczeniobiorców objętych opieką, przebywających pod tym samym adresem zamieszkania (np. w domu pomocy społecznej) – równoważnik 1 etatu przeliczeniowego – pielęgniarka nie może jednoczasowo opiekować się więcej niż 12 świadczeniobiorcami</a:t>
            </a:r>
            <a:r>
              <a:rPr b="0" lang="pl-PL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862aa"/>
                </a:solidFill>
                <a:latin typeface="Times New Roman"/>
              </a:rPr>
              <a:t>PROPORCJONALNE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862aa"/>
                </a:solidFill>
                <a:latin typeface="Times New Roman"/>
              </a:rPr>
              <a:t>WYLICZANIE CZASU PRACY DANEGO PERSONELU WZGLĘDEM LICZBY ŚWIADCZEŃ WSKAZANEJ W OFERCIE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862aa"/>
                </a:solidFill>
                <a:latin typeface="Times New Roman"/>
              </a:rPr>
              <a:t>(np. punkt w pielęgniarskiej opiece długoterminowej domowej = 1 osobodzień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272880" y="1484280"/>
            <a:ext cx="9360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ykaz gwarantowanych świadczeń opieki zdrowotnej – zakresy kontraktowane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850" name="Picture 5" descr=""/>
          <p:cNvPicPr/>
          <p:nvPr/>
        </p:nvPicPr>
        <p:blipFill>
          <a:blip r:embed="rId1"/>
          <a:stretch/>
        </p:blipFill>
        <p:spPr>
          <a:xfrm>
            <a:off x="928800" y="2376360"/>
            <a:ext cx="80485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944280" y="2060280"/>
            <a:ext cx="8026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pielęgniarskiej opiece długoterminowej dom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indywidualnym harmonogramie pracy; w typie udzielania świadczeń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wskazujemy „praca w miejscu”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(a nie wizyty domowe, tryb zarezerwowany dla podstawowej opieki zdrowotnej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"/>
          <p:cNvSpPr txBox="1"/>
          <p:nvPr/>
        </p:nvSpPr>
        <p:spPr>
          <a:xfrm>
            <a:off x="944280" y="2349000"/>
            <a:ext cx="80262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pielęgniarskiej opiece długoterminowej dom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harmonogram pracy komórki organizacyjnej musi być wypełniony indywidualnymi harmonogramami pracy pielęgniare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poniedziałek-piątek od 08:00 do 20:00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sobota-niedziela (np. od 08:00 do 10:00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 txBox="1"/>
          <p:nvPr/>
        </p:nvSpPr>
        <p:spPr>
          <a:xfrm>
            <a:off x="944280" y="2133720"/>
            <a:ext cx="80262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ewidencjonowanie kompetencji pielęgniarskich:</a:t>
            </a:r>
            <a:br>
              <a:rPr sz="2400"/>
            </a:b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w przypadku wykazywania w ofercie pielęgniarek, będących w trakcie uzyskiwania wymaganych kwalifikacji  należy wskazać kompetencję </a:t>
            </a:r>
            <a:br>
              <a:rPr sz="2400"/>
            </a:br>
            <a:r>
              <a:rPr b="1" lang="pl-PL" sz="2400" spc="-1" strike="noStrike">
                <a:solidFill>
                  <a:srgbClr val="2862aa"/>
                </a:solidFill>
                <a:latin typeface="Times New Roman"/>
              </a:rPr>
              <a:t>o kodzie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0303 - pielęgniarka w trakcie szkolenia specjalizacyjnego/ kursu kwalifikacyjnego/kursu specjalistyczneg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8C2C-E326-4DF1-9328-6C7B40C2F06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4" name=""/>
          <p:cNvGraphicFramePr/>
          <p:nvPr/>
        </p:nvGraphicFramePr>
        <p:xfrm>
          <a:off x="272880" y="1601640"/>
          <a:ext cx="9402840" cy="4635720"/>
        </p:xfrm>
        <a:graphic>
          <a:graphicData uri="http://schemas.openxmlformats.org/drawingml/2006/table">
            <a:tbl>
              <a:tblPr/>
              <a:tblGrid>
                <a:gridCol w="1513080"/>
                <a:gridCol w="1582560"/>
                <a:gridCol w="1873440"/>
                <a:gridCol w="2473200"/>
                <a:gridCol w="1960560"/>
              </a:tblGrid>
              <a:tr h="459000">
                <a:tc gridSpan="5"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ymagana dostępność komórek organizacyjnyc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032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pacjentów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dzieci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lęgniarska opieka długoterminowa dom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dla dzieci i młodzieży 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97640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 poniedziałku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piątku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godzinach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 8:00 do 20:00 oraz w soboty i dni ustawowo wolne od pracy –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medycznie uzasadnionych przypadk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    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/godziny 7 dni    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675e47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675e47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6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127D-6512-4877-B783-5B8688E2E29E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344520" y="2133720"/>
          <a:ext cx="9361440" cy="3517920"/>
        </p:xfrm>
        <a:graphic>
          <a:graphicData uri="http://schemas.openxmlformats.org/drawingml/2006/table">
            <a:tbl>
              <a:tblPr/>
              <a:tblGrid>
                <a:gridCol w="1488960"/>
                <a:gridCol w="1525680"/>
                <a:gridCol w="1527120"/>
                <a:gridCol w="2009880"/>
                <a:gridCol w="2809800"/>
              </a:tblGrid>
              <a:tr h="314280">
                <a:tc gridSpan="5"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ersonel: harmonogramy p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900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pacjentów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dzieci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lęgniarska opieka długoterminowa dom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dla dzieci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młodzieży w tym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21464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monogram godzinowy w rozbiciu na dni tygod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zba godzin pracy w tygod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72520" y="2349000"/>
            <a:ext cx="94330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Candara"/>
              </a:rPr>
              <a:t>Od 1 lipca 2018 r. obowiązuj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arządzenie nr 45/2018/DSOZ Prezesa Narodowego Funduszu Zdrowia z dnia 30 maja 2018 r. w sprawie określenia warunków zawierania i realizacji umów w rodzaju świadczenia pielęgnacyjn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i opiekuńcze w ramach opieki długotermin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przedmiot postępowania w sprawie zawarcia umów </a:t>
            </a:r>
            <a:br>
              <a:rPr sz="2800"/>
            </a:b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o udzielanie świadczeń opieki zdrowotnej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4a8a4"/>
                </a:solidFill>
                <a:latin typeface="Candara"/>
              </a:rPr>
              <a:t>szczegółowe warunki umów o udzielanie świadczeń opieki zdrowotnej (wzór umowy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6B51-2CBC-4FE6-8317-6757B42CA63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344160" y="2674440"/>
            <a:ext cx="9288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Załącznik nr 1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Katalog świadczeń pielęgnacyjnych i opiekuńczych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dla świadczeń gwarantowanych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522F-5993-4DC0-9128-45225C5BB48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5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5601-1D9D-4DA5-A3D4-ED08EDB9DA9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Picture 5" descr=""/>
          <p:cNvPicPr/>
          <p:nvPr/>
        </p:nvPicPr>
        <p:blipFill>
          <a:blip r:embed="rId1"/>
          <a:stretch/>
        </p:blipFill>
        <p:spPr>
          <a:xfrm>
            <a:off x="200160" y="1413000"/>
            <a:ext cx="95770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8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F3B6-141F-4FAF-8FEF-B8128AB65D62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2" descr=""/>
          <p:cNvPicPr/>
          <p:nvPr/>
        </p:nvPicPr>
        <p:blipFill>
          <a:blip r:embed="rId1"/>
          <a:stretch/>
        </p:blipFill>
        <p:spPr>
          <a:xfrm>
            <a:off x="0" y="2095560"/>
            <a:ext cx="9848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1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E4E6-B1A8-4D08-8EFE-090A39E8BB3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2" descr=""/>
          <p:cNvPicPr/>
          <p:nvPr/>
        </p:nvPicPr>
        <p:blipFill>
          <a:blip r:embed="rId1"/>
          <a:stretch/>
        </p:blipFill>
        <p:spPr>
          <a:xfrm>
            <a:off x="200160" y="2400480"/>
            <a:ext cx="9577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2" name="Symbol zastępczy numeru slajdu 4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393E-7509-470E-89DC-AD34DA56744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3" name=""/>
          <p:cNvGraphicFramePr/>
          <p:nvPr/>
        </p:nvGraphicFramePr>
        <p:xfrm>
          <a:off x="272880" y="1844640"/>
          <a:ext cx="9360000" cy="2989440"/>
        </p:xfrm>
        <a:graphic>
          <a:graphicData uri="http://schemas.openxmlformats.org/drawingml/2006/table">
            <a:tbl>
              <a:tblPr/>
              <a:tblGrid>
                <a:gridCol w="1960560"/>
                <a:gridCol w="1748160"/>
                <a:gridCol w="1519200"/>
                <a:gridCol w="2325600"/>
                <a:gridCol w="1806480"/>
              </a:tblGrid>
              <a:tr h="436680">
                <a:tc gridSpan="5"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ff0000"/>
                          </a:solidFill>
                          <a:latin typeface="Candara"/>
                        </a:rPr>
                        <a:t>Kody resortowe komórek organizacyjnyc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812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pacjentów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spół długoterminowej opieki domowej dla dzieci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elęgniarska opieka długoterminowa dom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kład pielęgnacyjno-opiekuńczy/zakład opiekuńczo-leczniczy dla dzieci i młodzież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tym dla wentylowanych mechanicz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14640"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/5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" rIns="104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1/5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" marR="10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4" name="Prostokąt 6"/>
          <p:cNvSpPr/>
          <p:nvPr/>
        </p:nvSpPr>
        <p:spPr>
          <a:xfrm>
            <a:off x="344520" y="5300640"/>
            <a:ext cx="914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f2b20"/>
                </a:solidFill>
                <a:latin typeface="Arial"/>
                <a:ea typeface="Arial"/>
              </a:rPr>
              <a:t>*/ ROZPORZĄDZENIE Ministra Zdrowia z dnia 17 maja 2012 r. w sprawie systemu resortowych kodów identyfikacyjnych oraz szczegółowego sposobu ich nadawania (Dz.U. z 2012 r. poz. 594), zmienione rozporządzeniem Ministra Zdrowia z dnia 27 kwietnia 2017 r. w sprawie systemu resortowych kodów identyfikacyjnych oraz szczegółowego sposobu ich nadawania (Dz.U. z 2017 r. poz. 999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4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2D02-3412-4502-8C7F-BF99A2FD9C5C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Picture 2" descr=""/>
          <p:cNvPicPr/>
          <p:nvPr/>
        </p:nvPicPr>
        <p:blipFill>
          <a:blip r:embed="rId1"/>
          <a:stretch/>
        </p:blipFill>
        <p:spPr>
          <a:xfrm>
            <a:off x="128520" y="2066760"/>
            <a:ext cx="96487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Katalog świadczeń pielęgnacyjnych i opiekuńczych dla świadczeń gwarantowanych 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7" name="Symbol zastępczy numeru slajdu 5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D024-67EA-416D-BE65-EB28E8EADADF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Picture 2" descr=""/>
          <p:cNvPicPr/>
          <p:nvPr/>
        </p:nvPicPr>
        <p:blipFill>
          <a:blip r:embed="rId1"/>
          <a:stretch/>
        </p:blipFill>
        <p:spPr>
          <a:xfrm>
            <a:off x="57240" y="2371680"/>
            <a:ext cx="9720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Wzory oświadcze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ARZĄDZENIE WEWNĘTRZN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DYREKTORA ŚLĄSKIEGO ODDZIAŁU WOJEWÓDZKIEGO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NARODOWEGO FUNDUSZU ZDROWIA W KATOWICACH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Nr 179/2015  z dnia 5 listopada 2015  r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wprowadzenia zasad weryfikacji oferentów uczestniczących w postępowaniach poprzedzających zawarcie umów o udzielanie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Picture 5" descr=""/>
          <p:cNvPicPr/>
          <p:nvPr/>
        </p:nvPicPr>
        <p:blipFill>
          <a:blip r:embed="rId1"/>
          <a:stretch/>
        </p:blipFill>
        <p:spPr>
          <a:xfrm>
            <a:off x="2079720" y="549360"/>
            <a:ext cx="5746680" cy="619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Picture 2" descr=""/>
          <p:cNvPicPr/>
          <p:nvPr/>
        </p:nvPicPr>
        <p:blipFill>
          <a:blip r:embed="rId1"/>
          <a:stretch/>
        </p:blipFill>
        <p:spPr>
          <a:xfrm>
            <a:off x="2079720" y="214200"/>
            <a:ext cx="5746680" cy="5667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2" descr=""/>
          <p:cNvPicPr/>
          <p:nvPr/>
        </p:nvPicPr>
        <p:blipFill>
          <a:blip r:embed="rId1"/>
          <a:stretch/>
        </p:blipFill>
        <p:spPr>
          <a:xfrm>
            <a:off x="2079720" y="404640"/>
            <a:ext cx="5746680" cy="6193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Picture 2" descr=""/>
          <p:cNvPicPr/>
          <p:nvPr/>
        </p:nvPicPr>
        <p:blipFill>
          <a:blip r:embed="rId1"/>
          <a:stretch/>
        </p:blipFill>
        <p:spPr>
          <a:xfrm>
            <a:off x="2079720" y="1274760"/>
            <a:ext cx="5746680" cy="5259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2"/>
          <p:cNvSpPr/>
          <p:nvPr/>
        </p:nvSpPr>
        <p:spPr>
          <a:xfrm>
            <a:off x="631800" y="2060640"/>
            <a:ext cx="8785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Kontakt telefoniczny w sprawie pytań merytoryczny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nr telefonu:</a:t>
            </a: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	</a:t>
            </a: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32/ 735 19 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1444680" y="3524400"/>
            <a:ext cx="7016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0000"/>
                </a:solidFill>
                <a:latin typeface="Times New Roman"/>
              </a:rPr>
              <a:t>WAŻNE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pis komórki / miejsca realizacji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na obszarz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ontraktowania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rejestrze podmiotów wykonujących działalność lecznicz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2"/>
          <p:cNvSpPr/>
          <p:nvPr/>
        </p:nvSpPr>
        <p:spPr>
          <a:xfrm>
            <a:off x="631800" y="1916280"/>
            <a:ext cx="8785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72880" y="2205000"/>
            <a:ext cx="9360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Świadczenia gwarantowane udzielane w </a:t>
            </a:r>
            <a:r>
              <a:rPr b="0" lang="pl-PL" sz="2200" spc="-1" strike="noStrike" u="sng">
                <a:solidFill>
                  <a:srgbClr val="073e87"/>
                </a:solidFill>
                <a:uFillTx/>
                <a:latin typeface="Candara"/>
              </a:rPr>
              <a:t>warunkach stacjonarnych 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ealizowane są w 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osób dorosłych,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pacjentów wentylowanych mechanicznie,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dzieci i młodzieży do ukończenia 18. roku życia,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kładach opiekuńczych dla pacjentów lub dzieci wentylowanych mechanicznie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1119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4a8a4"/>
                </a:solidFill>
                <a:latin typeface="Candara"/>
              </a:rPr>
              <a:t>Zakłady opiekuńcze to:  zakłady opiekuńczo-lecznicze i pielęgnacyjno-opiekuńcze, </a:t>
            </a:r>
            <a:br>
              <a:rPr sz="1900"/>
            </a:br>
            <a:r>
              <a:rPr b="0" lang="pl-PL" sz="1900" spc="-1" strike="noStrike">
                <a:solidFill>
                  <a:srgbClr val="04a8a4"/>
                </a:solidFill>
                <a:latin typeface="Candara"/>
              </a:rPr>
              <a:t>o których mowa w ustawie z dnia 15 kwietnia 2011 r. o działalności leczniczej </a:t>
            </a:r>
            <a:br>
              <a:rPr sz="1900"/>
            </a:br>
            <a:r>
              <a:rPr b="0" lang="pl-PL" sz="1900" spc="-1" strike="noStrike">
                <a:solidFill>
                  <a:srgbClr val="04a8a4"/>
                </a:solidFill>
                <a:latin typeface="Candara"/>
              </a:rPr>
              <a:t>(tj. Dz. U. z 2018 r. poz. 2190)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9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52E0-BA77-4577-9A42-37CBC280B1CB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ŚWIADCZENIA PIELĘGNACYJNE I OPIEKUŃCZ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ndara"/>
              </a:rPr>
              <a:t>W RAMACH OPIEKI DŁUGOTERMINOWEJ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44160" y="2205000"/>
            <a:ext cx="92883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W zakresie koniecznym do wykonania świadczeń gwarantowanych świadczeniodawca zapewnia świadczeniobiorcy nieodpłatnie: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1)  badania diagnostyczne;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73e87"/>
                </a:solidFill>
                <a:latin typeface="Candara"/>
              </a:rPr>
              <a:t>2)  leki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D852-9437-406D-8D73-CAB0B7987114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4-03-13T11:33:09Z</cp:lastPrinted>
  <dcterms:modified xsi:type="dcterms:W3CDTF">2019-03-15T13:18:36Z</dcterms:modified>
  <cp:revision>1195</cp:revision>
  <dc:subject/>
  <dc:title>Slajd 1</dc:title>
</cp:coreProperties>
</file>